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603-7C48-4ABE-982D-7A3B3E5C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89F0-A36B-4C6F-B17A-3907C9C9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A700-2AB0-4DFA-82CB-6C42BD42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A8E6-333D-42F1-A9DF-FBD470AA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7F98-860C-4600-8F84-4A11CF96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DA92-192C-411B-9356-C1AA64D3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2E78-B397-436A-872A-CF49D8C9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AECB-9CD4-42EC-AE97-36CC649E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01B4-FF92-453F-9E87-A72A0481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5321-0A82-480E-B355-C2D751D0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6962-86ED-4935-9D45-C7A3346F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F79B-E1C0-421B-AA33-7102D09F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67AD-488B-4A99-BFC0-65DC94D5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06BE-0EA4-4594-BD18-F7A86513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D838-7DFB-47E3-B609-0ED8C59D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41D8-5B21-4675-A82B-5E395FBB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2C56-4A09-4972-88F5-F06BB0D9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6DB-6D3C-435F-B756-F1E997B5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22A5-6876-4358-BD47-AD4BD7CB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E652-319D-4E34-ACD7-DF3E5726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BC9-2A18-42B0-B979-1C4AB864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3C2-28FF-47CB-921B-5B6B883A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5B2-B75F-47C5-88A6-B9EF8F2D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0F8-9258-466E-962B-8FCBCD92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4B67-4388-4CC6-B0A9-40ECC76661A1}" type="datetime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2D04-4E23-4850-965B-E31A4243E7B8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C3CD-B586-46D1-AF85-83EF76E9BCC5}" type="datetime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0AA3-F98F-45CC-80A3-51764EDEE79D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0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C:\Program Files\Vfp98\VFP6.EXE" TargetMode="External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7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8.png"/><Relationship Id="rId15" Type="http://schemas.openxmlformats.org/officeDocument/2006/relationships/hyperlink" Target="C:\Program Files\Vfp98\VFP6.EXE" TargetMode="External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hyperlink" Target="C:\Program Files\Vfp98\VFP6.EXE" TargetMode="External"/><Relationship Id="rId9" Type="http://schemas.openxmlformats.org/officeDocument/2006/relationships/image" Target="../media/image15.png"/><Relationship Id="rId10" Type="http://schemas.openxmlformats.org/officeDocument/2006/relationships/slide" Target="slide4.xml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11320" y="1476360"/>
            <a:ext cx="4121640" cy="38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            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学习要点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Visual FoxPro 6.0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的安装方法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Visual FoxPro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的命令格式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、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Visual FoxPro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文件的基本命名方法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、常用的文件类型和数据类型以及基本概念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52400" y="326880"/>
            <a:ext cx="623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华文行楷"/>
              </a:rPr>
              <a:t>第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华文行楷"/>
              </a:rPr>
              <a:t>章    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华文行楷"/>
              </a:rPr>
              <a:t>Visual FoxPro 6.0 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华文行楷"/>
              </a:rPr>
              <a:t>概述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275-77C8-449E-B9E1-FD48E4DADB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B6D04-5B39-4151-B023-6B80579A70A6}" type="datetime1">
              <a:rPr lang="en-US"/>
              <a:t>07/29/26</a:t>
            </a:fld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514520" y="457200"/>
            <a:ext cx="64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3  Visual FoxPro 6.0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基本概念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1371600"/>
            <a:ext cx="4643640" cy="503280"/>
          </a:xfrm>
          <a:custGeom>
            <a:avLst/>
            <a:gdLst>
              <a:gd name="textAreaLeft" fmla="*/ 32400 w 4643640"/>
              <a:gd name="textAreaRight" fmla="*/ 4611240 w 464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99171" h="21600">
                <a:moveTo>
                  <a:pt x="0" y="0"/>
                </a:moveTo>
                <a:lnTo>
                  <a:pt x="199171" y="0"/>
                </a:lnTo>
                <a:lnTo>
                  <a:pt x="199171" y="21600"/>
                </a:lnTo>
                <a:lnTo>
                  <a:pt x="0" y="21600"/>
                </a:lnTo>
                <a:close/>
              </a:path>
              <a:path fill="lightenLess" w="199171" h="21600">
                <a:moveTo>
                  <a:pt x="0" y="0"/>
                </a:moveTo>
                <a:lnTo>
                  <a:pt x="199171" y="0"/>
                </a:lnTo>
                <a:lnTo>
                  <a:pt x="197771" y="1400"/>
                </a:lnTo>
                <a:lnTo>
                  <a:pt x="1400" y="1400"/>
                </a:lnTo>
                <a:close/>
              </a:path>
              <a:path fill="darken" w="199171" h="21600">
                <a:moveTo>
                  <a:pt x="199171" y="0"/>
                </a:moveTo>
                <a:lnTo>
                  <a:pt x="199171" y="21600"/>
                </a:lnTo>
                <a:lnTo>
                  <a:pt x="197771" y="20200"/>
                </a:lnTo>
                <a:lnTo>
                  <a:pt x="197771" y="1400"/>
                </a:lnTo>
                <a:close/>
              </a:path>
              <a:path fill="darkenLess" w="199171" h="21600">
                <a:moveTo>
                  <a:pt x="199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771" y="20200"/>
                </a:lnTo>
                <a:close/>
              </a:path>
              <a:path fill="lighten" w="199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1.3.1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数据库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2011320"/>
            <a:ext cx="4643640" cy="503280"/>
          </a:xfrm>
          <a:custGeom>
            <a:avLst/>
            <a:gdLst>
              <a:gd name="textAreaLeft" fmla="*/ 32400 w 4643640"/>
              <a:gd name="textAreaRight" fmla="*/ 4611240 w 464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99171" h="21600">
                <a:moveTo>
                  <a:pt x="0" y="0"/>
                </a:moveTo>
                <a:lnTo>
                  <a:pt x="199171" y="0"/>
                </a:lnTo>
                <a:lnTo>
                  <a:pt x="199171" y="21600"/>
                </a:lnTo>
                <a:lnTo>
                  <a:pt x="0" y="21600"/>
                </a:lnTo>
                <a:close/>
              </a:path>
              <a:path fill="lightenLess" w="199171" h="21600">
                <a:moveTo>
                  <a:pt x="0" y="0"/>
                </a:moveTo>
                <a:lnTo>
                  <a:pt x="199171" y="0"/>
                </a:lnTo>
                <a:lnTo>
                  <a:pt x="197771" y="1400"/>
                </a:lnTo>
                <a:lnTo>
                  <a:pt x="1400" y="1400"/>
                </a:lnTo>
                <a:close/>
              </a:path>
              <a:path fill="darken" w="199171" h="21600">
                <a:moveTo>
                  <a:pt x="199171" y="0"/>
                </a:moveTo>
                <a:lnTo>
                  <a:pt x="199171" y="21600"/>
                </a:lnTo>
                <a:lnTo>
                  <a:pt x="197771" y="20200"/>
                </a:lnTo>
                <a:lnTo>
                  <a:pt x="197771" y="1400"/>
                </a:lnTo>
                <a:close/>
              </a:path>
              <a:path fill="darkenLess" w="199171" h="21600">
                <a:moveTo>
                  <a:pt x="199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771" y="20200"/>
                </a:lnTo>
                <a:close/>
              </a:path>
              <a:path fill="lighten" w="199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1.3.2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表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2620800"/>
            <a:ext cx="4643640" cy="503280"/>
          </a:xfrm>
          <a:custGeom>
            <a:avLst/>
            <a:gdLst>
              <a:gd name="textAreaLeft" fmla="*/ 32400 w 4643640"/>
              <a:gd name="textAreaRight" fmla="*/ 4611240 w 464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99171" h="21600">
                <a:moveTo>
                  <a:pt x="0" y="0"/>
                </a:moveTo>
                <a:lnTo>
                  <a:pt x="199171" y="0"/>
                </a:lnTo>
                <a:lnTo>
                  <a:pt x="199171" y="21600"/>
                </a:lnTo>
                <a:lnTo>
                  <a:pt x="0" y="21600"/>
                </a:lnTo>
                <a:close/>
              </a:path>
              <a:path fill="lightenLess" w="199171" h="21600">
                <a:moveTo>
                  <a:pt x="0" y="0"/>
                </a:moveTo>
                <a:lnTo>
                  <a:pt x="199171" y="0"/>
                </a:lnTo>
                <a:lnTo>
                  <a:pt x="197771" y="1400"/>
                </a:lnTo>
                <a:lnTo>
                  <a:pt x="1400" y="1400"/>
                </a:lnTo>
                <a:close/>
              </a:path>
              <a:path fill="darken" w="199171" h="21600">
                <a:moveTo>
                  <a:pt x="199171" y="0"/>
                </a:moveTo>
                <a:lnTo>
                  <a:pt x="199171" y="21600"/>
                </a:lnTo>
                <a:lnTo>
                  <a:pt x="197771" y="20200"/>
                </a:lnTo>
                <a:lnTo>
                  <a:pt x="197771" y="1400"/>
                </a:lnTo>
                <a:close/>
              </a:path>
              <a:path fill="darkenLess" w="199171" h="21600">
                <a:moveTo>
                  <a:pt x="199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771" y="20200"/>
                </a:lnTo>
                <a:close/>
              </a:path>
              <a:path fill="lighten" w="199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1.3.3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视图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">
            <a:hlinkClick r:id="rId2" action="ppaction://hlinksldjump"/>
          </p:cNvPr>
          <p:cNvSpPr/>
          <p:nvPr/>
        </p:nvSpPr>
        <p:spPr>
          <a:xfrm>
            <a:off x="2438280" y="3230640"/>
            <a:ext cx="4643640" cy="503280"/>
          </a:xfrm>
          <a:custGeom>
            <a:avLst/>
            <a:gdLst>
              <a:gd name="textAreaLeft" fmla="*/ 32400 w 4643640"/>
              <a:gd name="textAreaRight" fmla="*/ 4611240 w 464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99171" h="21600">
                <a:moveTo>
                  <a:pt x="0" y="0"/>
                </a:moveTo>
                <a:lnTo>
                  <a:pt x="199171" y="0"/>
                </a:lnTo>
                <a:lnTo>
                  <a:pt x="199171" y="21600"/>
                </a:lnTo>
                <a:lnTo>
                  <a:pt x="0" y="21600"/>
                </a:lnTo>
                <a:close/>
              </a:path>
              <a:path fill="lightenLess" w="199171" h="21600">
                <a:moveTo>
                  <a:pt x="0" y="0"/>
                </a:moveTo>
                <a:lnTo>
                  <a:pt x="199171" y="0"/>
                </a:lnTo>
                <a:lnTo>
                  <a:pt x="197771" y="1400"/>
                </a:lnTo>
                <a:lnTo>
                  <a:pt x="1400" y="1400"/>
                </a:lnTo>
                <a:close/>
              </a:path>
              <a:path fill="darken" w="199171" h="21600">
                <a:moveTo>
                  <a:pt x="199171" y="0"/>
                </a:moveTo>
                <a:lnTo>
                  <a:pt x="199171" y="21600"/>
                </a:lnTo>
                <a:lnTo>
                  <a:pt x="197771" y="20200"/>
                </a:lnTo>
                <a:lnTo>
                  <a:pt x="197771" y="1400"/>
                </a:lnTo>
                <a:close/>
              </a:path>
              <a:path fill="darkenLess" w="199171" h="21600">
                <a:moveTo>
                  <a:pt x="199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771" y="20200"/>
                </a:lnTo>
                <a:close/>
              </a:path>
              <a:path fill="lighten" w="199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1.3.4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关系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5" name="">
            <a:hlinkClick r:id="rId3" action="ppaction://hlinksldjump"/>
          </p:cNvPr>
          <p:cNvSpPr/>
          <p:nvPr/>
        </p:nvSpPr>
        <p:spPr>
          <a:xfrm>
            <a:off x="2438280" y="3840120"/>
            <a:ext cx="4643640" cy="503280"/>
          </a:xfrm>
          <a:custGeom>
            <a:avLst/>
            <a:gdLst>
              <a:gd name="textAreaLeft" fmla="*/ 32400 w 4643640"/>
              <a:gd name="textAreaRight" fmla="*/ 4611240 w 464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99171" h="21600">
                <a:moveTo>
                  <a:pt x="0" y="0"/>
                </a:moveTo>
                <a:lnTo>
                  <a:pt x="199171" y="0"/>
                </a:lnTo>
                <a:lnTo>
                  <a:pt x="199171" y="21600"/>
                </a:lnTo>
                <a:lnTo>
                  <a:pt x="0" y="21600"/>
                </a:lnTo>
                <a:close/>
              </a:path>
              <a:path fill="lightenLess" w="199171" h="21600">
                <a:moveTo>
                  <a:pt x="0" y="0"/>
                </a:moveTo>
                <a:lnTo>
                  <a:pt x="199171" y="0"/>
                </a:lnTo>
                <a:lnTo>
                  <a:pt x="197771" y="1400"/>
                </a:lnTo>
                <a:lnTo>
                  <a:pt x="1400" y="1400"/>
                </a:lnTo>
                <a:close/>
              </a:path>
              <a:path fill="darken" w="199171" h="21600">
                <a:moveTo>
                  <a:pt x="199171" y="0"/>
                </a:moveTo>
                <a:lnTo>
                  <a:pt x="199171" y="21600"/>
                </a:lnTo>
                <a:lnTo>
                  <a:pt x="197771" y="20200"/>
                </a:lnTo>
                <a:lnTo>
                  <a:pt x="197771" y="1400"/>
                </a:lnTo>
                <a:close/>
              </a:path>
              <a:path fill="darkenLess" w="199171" h="21600">
                <a:moveTo>
                  <a:pt x="199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771" y="20200"/>
                </a:lnTo>
                <a:close/>
              </a:path>
              <a:path fill="lighten" w="199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1.3.5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数据库管理系统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4449600"/>
            <a:ext cx="4643640" cy="503280"/>
          </a:xfrm>
          <a:custGeom>
            <a:avLst/>
            <a:gdLst>
              <a:gd name="textAreaLeft" fmla="*/ 32400 w 4643640"/>
              <a:gd name="textAreaRight" fmla="*/ 4611240 w 464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99171" h="21600">
                <a:moveTo>
                  <a:pt x="0" y="0"/>
                </a:moveTo>
                <a:lnTo>
                  <a:pt x="199171" y="0"/>
                </a:lnTo>
                <a:lnTo>
                  <a:pt x="199171" y="21600"/>
                </a:lnTo>
                <a:lnTo>
                  <a:pt x="0" y="21600"/>
                </a:lnTo>
                <a:close/>
              </a:path>
              <a:path fill="lightenLess" w="199171" h="21600">
                <a:moveTo>
                  <a:pt x="0" y="0"/>
                </a:moveTo>
                <a:lnTo>
                  <a:pt x="199171" y="0"/>
                </a:lnTo>
                <a:lnTo>
                  <a:pt x="197771" y="1400"/>
                </a:lnTo>
                <a:lnTo>
                  <a:pt x="1400" y="1400"/>
                </a:lnTo>
                <a:close/>
              </a:path>
              <a:path fill="darken" w="199171" h="21600">
                <a:moveTo>
                  <a:pt x="199171" y="0"/>
                </a:moveTo>
                <a:lnTo>
                  <a:pt x="199171" y="21600"/>
                </a:lnTo>
                <a:lnTo>
                  <a:pt x="197771" y="20200"/>
                </a:lnTo>
                <a:lnTo>
                  <a:pt x="197771" y="1400"/>
                </a:lnTo>
                <a:close/>
              </a:path>
              <a:path fill="darkenLess" w="199171" h="21600">
                <a:moveTo>
                  <a:pt x="199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771" y="20200"/>
                </a:lnTo>
                <a:close/>
              </a:path>
              <a:path fill="lighten" w="199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1.3.6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常量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7" name="">
            <a:hlinkClick r:id="rId4" action="ppaction://hlinksldjump"/>
          </p:cNvPr>
          <p:cNvSpPr/>
          <p:nvPr/>
        </p:nvSpPr>
        <p:spPr>
          <a:xfrm>
            <a:off x="2438280" y="5059440"/>
            <a:ext cx="4643640" cy="503280"/>
          </a:xfrm>
          <a:custGeom>
            <a:avLst/>
            <a:gdLst>
              <a:gd name="textAreaLeft" fmla="*/ 32400 w 4643640"/>
              <a:gd name="textAreaRight" fmla="*/ 4611240 w 464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99171" h="21600">
                <a:moveTo>
                  <a:pt x="0" y="0"/>
                </a:moveTo>
                <a:lnTo>
                  <a:pt x="199171" y="0"/>
                </a:lnTo>
                <a:lnTo>
                  <a:pt x="199171" y="21600"/>
                </a:lnTo>
                <a:lnTo>
                  <a:pt x="0" y="21600"/>
                </a:lnTo>
                <a:close/>
              </a:path>
              <a:path fill="lightenLess" w="199171" h="21600">
                <a:moveTo>
                  <a:pt x="0" y="0"/>
                </a:moveTo>
                <a:lnTo>
                  <a:pt x="199171" y="0"/>
                </a:lnTo>
                <a:lnTo>
                  <a:pt x="197771" y="1400"/>
                </a:lnTo>
                <a:lnTo>
                  <a:pt x="1400" y="1400"/>
                </a:lnTo>
                <a:close/>
              </a:path>
              <a:path fill="darken" w="199171" h="21600">
                <a:moveTo>
                  <a:pt x="199171" y="0"/>
                </a:moveTo>
                <a:lnTo>
                  <a:pt x="199171" y="21600"/>
                </a:lnTo>
                <a:lnTo>
                  <a:pt x="197771" y="20200"/>
                </a:lnTo>
                <a:lnTo>
                  <a:pt x="197771" y="1400"/>
                </a:lnTo>
                <a:close/>
              </a:path>
              <a:path fill="darkenLess" w="199171" h="21600">
                <a:moveTo>
                  <a:pt x="199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771" y="20200"/>
                </a:lnTo>
                <a:close/>
              </a:path>
              <a:path fill="lighten" w="199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1.3.7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变量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endshow"/>
          </p:cNvPr>
          <p:cNvSpPr/>
          <p:nvPr/>
        </p:nvSpPr>
        <p:spPr>
          <a:xfrm>
            <a:off x="5334120" y="5668920"/>
            <a:ext cx="1747800" cy="503280"/>
          </a:xfrm>
          <a:custGeom>
            <a:avLst/>
            <a:gdLst>
              <a:gd name="textAreaLeft" fmla="*/ 32400 w 1747800"/>
              <a:gd name="textAreaRight" fmla="*/ 1715400 w 17478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975" h="21600">
                <a:moveTo>
                  <a:pt x="0" y="0"/>
                </a:moveTo>
                <a:lnTo>
                  <a:pt x="74975" y="0"/>
                </a:lnTo>
                <a:lnTo>
                  <a:pt x="74975" y="21600"/>
                </a:lnTo>
                <a:lnTo>
                  <a:pt x="0" y="21600"/>
                </a:lnTo>
                <a:close/>
              </a:path>
              <a:path fill="lightenLess" w="74975" h="21600">
                <a:moveTo>
                  <a:pt x="0" y="0"/>
                </a:moveTo>
                <a:lnTo>
                  <a:pt x="74975" y="0"/>
                </a:lnTo>
                <a:lnTo>
                  <a:pt x="73575" y="1400"/>
                </a:lnTo>
                <a:lnTo>
                  <a:pt x="1400" y="1400"/>
                </a:lnTo>
                <a:close/>
              </a:path>
              <a:path fill="darken" w="74975" h="21600">
                <a:moveTo>
                  <a:pt x="74975" y="0"/>
                </a:moveTo>
                <a:lnTo>
                  <a:pt x="74975" y="21600"/>
                </a:lnTo>
                <a:lnTo>
                  <a:pt x="73575" y="20200"/>
                </a:lnTo>
                <a:lnTo>
                  <a:pt x="73575" y="1400"/>
                </a:lnTo>
                <a:close/>
              </a:path>
              <a:path fill="darkenLess" w="74975" h="21600">
                <a:moveTo>
                  <a:pt x="74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575" y="20200"/>
                </a:lnTo>
                <a:close/>
              </a:path>
              <a:path fill="lighten" w="74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aca9c"/>
                </a:solidFill>
                <a:latin typeface="Times New Roman"/>
              </a:rPr>
              <a:t>退        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9" name="">
            <a:hlinkClick r:id="rId5" action="ppaction://hlinksldjump"/>
          </p:cNvPr>
          <p:cNvSpPr/>
          <p:nvPr/>
        </p:nvSpPr>
        <p:spPr>
          <a:xfrm>
            <a:off x="2438280" y="5668920"/>
            <a:ext cx="1747800" cy="503280"/>
          </a:xfrm>
          <a:custGeom>
            <a:avLst/>
            <a:gdLst>
              <a:gd name="textAreaLeft" fmla="*/ 32400 w 1747800"/>
              <a:gd name="textAreaRight" fmla="*/ 1715400 w 17478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4975" h="21600">
                <a:moveTo>
                  <a:pt x="0" y="0"/>
                </a:moveTo>
                <a:lnTo>
                  <a:pt x="74975" y="0"/>
                </a:lnTo>
                <a:lnTo>
                  <a:pt x="74975" y="21600"/>
                </a:lnTo>
                <a:lnTo>
                  <a:pt x="0" y="21600"/>
                </a:lnTo>
                <a:close/>
              </a:path>
              <a:path fill="lightenLess" w="74975" h="21600">
                <a:moveTo>
                  <a:pt x="0" y="0"/>
                </a:moveTo>
                <a:lnTo>
                  <a:pt x="74975" y="0"/>
                </a:lnTo>
                <a:lnTo>
                  <a:pt x="73575" y="1400"/>
                </a:lnTo>
                <a:lnTo>
                  <a:pt x="1400" y="1400"/>
                </a:lnTo>
                <a:close/>
              </a:path>
              <a:path fill="darken" w="74975" h="21600">
                <a:moveTo>
                  <a:pt x="74975" y="0"/>
                </a:moveTo>
                <a:lnTo>
                  <a:pt x="74975" y="21600"/>
                </a:lnTo>
                <a:lnTo>
                  <a:pt x="73575" y="20200"/>
                </a:lnTo>
                <a:lnTo>
                  <a:pt x="73575" y="1400"/>
                </a:lnTo>
                <a:close/>
              </a:path>
              <a:path fill="darkenLess" w="74975" h="21600">
                <a:moveTo>
                  <a:pt x="74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575" y="20200"/>
                </a:lnTo>
                <a:close/>
              </a:path>
              <a:path fill="lighten" w="74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返      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3AB2-1683-4C6D-A308-8D21CE6BB81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A0015-A318-4188-A31D-99C1937D4CC6}" type="datetime1">
              <a:rPr lang="en-US"/>
              <a:t>07/29/26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321360" y="258840"/>
            <a:ext cx="221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1.3.1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数据库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81560" y="863640"/>
            <a:ext cx="597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数据库（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Data-BASE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： 现阶段对数据库的定义是存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贮在一起的通用化相关数据的集合，它不仅包括描述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事物的数据本身，而且包括有关事物之间的联系。数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据库文件具有 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.dbc 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扩展名，可以包含一个或多个表、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视图、到远程数据源的连接和存储过程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5760" y="1371600"/>
            <a:ext cx="3506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93160" y="3154320"/>
            <a:ext cx="16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1.3.2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表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94480" y="3838680"/>
            <a:ext cx="508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表（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Table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表是构成数据库的基本元素之一，是数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据库中数据组织并存储的单元。在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Visual FoxPro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中，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一个表以记录（行）和字段（列）的形式存储数据，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它与传统的数据库的概念等同。 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4343400"/>
            <a:ext cx="2057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6248520" y="6141960"/>
            <a:ext cx="1042920" cy="41112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65" h="21600">
                <a:moveTo>
                  <a:pt x="0" y="0"/>
                </a:moveTo>
                <a:lnTo>
                  <a:pt x="54765" y="0"/>
                </a:lnTo>
                <a:lnTo>
                  <a:pt x="54765" y="21600"/>
                </a:lnTo>
                <a:lnTo>
                  <a:pt x="0" y="21600"/>
                </a:lnTo>
                <a:close/>
              </a:path>
              <a:path fill="lightenLess" w="54765" h="21600">
                <a:moveTo>
                  <a:pt x="0" y="0"/>
                </a:moveTo>
                <a:lnTo>
                  <a:pt x="54765" y="0"/>
                </a:lnTo>
                <a:lnTo>
                  <a:pt x="53365" y="1400"/>
                </a:lnTo>
                <a:lnTo>
                  <a:pt x="1400" y="1400"/>
                </a:lnTo>
                <a:close/>
              </a:path>
              <a:path fill="darken" w="54765" h="21600">
                <a:moveTo>
                  <a:pt x="54765" y="0"/>
                </a:moveTo>
                <a:lnTo>
                  <a:pt x="54765" y="21600"/>
                </a:lnTo>
                <a:lnTo>
                  <a:pt x="53365" y="20200"/>
                </a:lnTo>
                <a:lnTo>
                  <a:pt x="53365" y="1400"/>
                </a:lnTo>
                <a:close/>
              </a:path>
              <a:path fill="darkenLess" w="54765" h="21600">
                <a:moveTo>
                  <a:pt x="5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65" y="20200"/>
                </a:lnTo>
                <a:close/>
              </a:path>
              <a:path fill="lighten" w="5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3A16-3292-4190-8DA3-2FCDDF44820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475AC-4E33-424A-8FB7-63A6EEAB8D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81960" y="304920"/>
            <a:ext cx="62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1.3.3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视图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SQL VIEW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VIEW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295280"/>
            <a:ext cx="845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视图：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一个定制的虚拟表定义，可以是本地的、远程的或带参数的。视图可引用一个或多个表，或者引用其他视图。视图是可更新的，它可引用远程表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42880" y="3078000"/>
            <a:ext cx="41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1.3.4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关系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Relation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25080" y="3672000"/>
            <a:ext cx="517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关系：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是表之间的一种链接，它允许您不仅能从当前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选定表中访问数据，而且可以访问其他表中的数据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这种链接指的是联接条件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1828800"/>
            <a:ext cx="99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4191120"/>
            <a:ext cx="99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6248520" y="6141960"/>
            <a:ext cx="1042920" cy="41112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65" h="21600">
                <a:moveTo>
                  <a:pt x="0" y="0"/>
                </a:moveTo>
                <a:lnTo>
                  <a:pt x="54765" y="0"/>
                </a:lnTo>
                <a:lnTo>
                  <a:pt x="54765" y="21600"/>
                </a:lnTo>
                <a:lnTo>
                  <a:pt x="0" y="21600"/>
                </a:lnTo>
                <a:close/>
              </a:path>
              <a:path fill="lightenLess" w="54765" h="21600">
                <a:moveTo>
                  <a:pt x="0" y="0"/>
                </a:moveTo>
                <a:lnTo>
                  <a:pt x="54765" y="0"/>
                </a:lnTo>
                <a:lnTo>
                  <a:pt x="53365" y="1400"/>
                </a:lnTo>
                <a:lnTo>
                  <a:pt x="1400" y="1400"/>
                </a:lnTo>
                <a:close/>
              </a:path>
              <a:path fill="darken" w="54765" h="21600">
                <a:moveTo>
                  <a:pt x="54765" y="0"/>
                </a:moveTo>
                <a:lnTo>
                  <a:pt x="54765" y="21600"/>
                </a:lnTo>
                <a:lnTo>
                  <a:pt x="53365" y="20200"/>
                </a:lnTo>
                <a:lnTo>
                  <a:pt x="53365" y="1400"/>
                </a:lnTo>
                <a:close/>
              </a:path>
              <a:path fill="darkenLess" w="54765" h="21600">
                <a:moveTo>
                  <a:pt x="5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65" y="20200"/>
                </a:lnTo>
                <a:close/>
              </a:path>
              <a:path fill="lighten" w="5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1B41-209C-43F8-ABFC-B8A8DABD990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63378-1F63-445E-9996-D0C8DEE5F7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20960" y="304920"/>
            <a:ext cx="32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1.3.5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数据库管理系统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9907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数据库管理系统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Data Base Management System)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：是对数据库进行管理的软件系统。简称为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DBMS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。它的功能可概括为五个方面：数据的组织和存贮、数据的查询、数据的增加删除和修改、数据的排序和索引、数据的统计和分析。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19280" y="3276720"/>
            <a:ext cx="19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1.3.6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常量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76120" y="3809880"/>
            <a:ext cx="53712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常量：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一个不变的数值或字符串。常量表达式中包括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常量和操作符，但不包含变量，而且计算结果总是常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值。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Visual FoxPro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支持多种类型的常量，如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数值常量、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字符常量、日期常量、逻辑常量、货币常量、日期时间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常量等。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34340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1447920"/>
            <a:ext cx="2819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6248520" y="6141960"/>
            <a:ext cx="1042920" cy="41112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65" h="21600">
                <a:moveTo>
                  <a:pt x="0" y="0"/>
                </a:moveTo>
                <a:lnTo>
                  <a:pt x="54765" y="0"/>
                </a:lnTo>
                <a:lnTo>
                  <a:pt x="54765" y="21600"/>
                </a:lnTo>
                <a:lnTo>
                  <a:pt x="0" y="21600"/>
                </a:lnTo>
                <a:close/>
              </a:path>
              <a:path fill="lightenLess" w="54765" h="21600">
                <a:moveTo>
                  <a:pt x="0" y="0"/>
                </a:moveTo>
                <a:lnTo>
                  <a:pt x="54765" y="0"/>
                </a:lnTo>
                <a:lnTo>
                  <a:pt x="53365" y="1400"/>
                </a:lnTo>
                <a:lnTo>
                  <a:pt x="1400" y="1400"/>
                </a:lnTo>
                <a:close/>
              </a:path>
              <a:path fill="darken" w="54765" h="21600">
                <a:moveTo>
                  <a:pt x="54765" y="0"/>
                </a:moveTo>
                <a:lnTo>
                  <a:pt x="54765" y="21600"/>
                </a:lnTo>
                <a:lnTo>
                  <a:pt x="53365" y="20200"/>
                </a:lnTo>
                <a:lnTo>
                  <a:pt x="53365" y="1400"/>
                </a:lnTo>
                <a:close/>
              </a:path>
              <a:path fill="darkenLess" w="54765" h="21600">
                <a:moveTo>
                  <a:pt x="5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65" y="20200"/>
                </a:lnTo>
                <a:close/>
              </a:path>
              <a:path fill="lighten" w="5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6668-E98C-4A62-8CA0-A09C966108F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6D47D-8E1C-4DC2-A2B6-9216998AE1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430440" y="304920"/>
            <a:ext cx="19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1.3.7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变量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990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变量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是值可改变的量，指代计算机内存中的某一位置，其中可存放数据。变量分为字段变量和内存变量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243828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内存变量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：是独立于数据库文件的临时存储单元，可以用来存放表操作过程中或程序运行过程中所要临时保存的数据。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388476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字段变量：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表中的每一个字段就是一个字段变量，字段名就是字段变量的变量名。字段变量的当前值等于表中当前记录该字段所对应的内容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4419720"/>
            <a:ext cx="17524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2971800"/>
            <a:ext cx="17524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1523880"/>
            <a:ext cx="914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6248520" y="6141960"/>
            <a:ext cx="1042920" cy="41112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65" h="21600">
                <a:moveTo>
                  <a:pt x="0" y="0"/>
                </a:moveTo>
                <a:lnTo>
                  <a:pt x="54765" y="0"/>
                </a:lnTo>
                <a:lnTo>
                  <a:pt x="54765" y="21600"/>
                </a:lnTo>
                <a:lnTo>
                  <a:pt x="0" y="21600"/>
                </a:lnTo>
                <a:close/>
              </a:path>
              <a:path fill="lightenLess" w="54765" h="21600">
                <a:moveTo>
                  <a:pt x="0" y="0"/>
                </a:moveTo>
                <a:lnTo>
                  <a:pt x="54765" y="0"/>
                </a:lnTo>
                <a:lnTo>
                  <a:pt x="53365" y="1400"/>
                </a:lnTo>
                <a:lnTo>
                  <a:pt x="1400" y="1400"/>
                </a:lnTo>
                <a:close/>
              </a:path>
              <a:path fill="darken" w="54765" h="21600">
                <a:moveTo>
                  <a:pt x="54765" y="0"/>
                </a:moveTo>
                <a:lnTo>
                  <a:pt x="54765" y="21600"/>
                </a:lnTo>
                <a:lnTo>
                  <a:pt x="53365" y="20200"/>
                </a:lnTo>
                <a:lnTo>
                  <a:pt x="53365" y="1400"/>
                </a:lnTo>
                <a:close/>
              </a:path>
              <a:path fill="darkenLess" w="54765" h="21600">
                <a:moveTo>
                  <a:pt x="5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65" y="20200"/>
                </a:lnTo>
                <a:close/>
              </a:path>
              <a:path fill="lighten" w="5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4D84-5EA7-4753-AD89-C677E7E2C70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90100-B2DC-4B7B-B291-BA6DBB9575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423520" y="457200"/>
            <a:ext cx="467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4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文件命名方法和命令构成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2438280" y="1371600"/>
            <a:ext cx="4643640" cy="762120"/>
          </a:xfrm>
          <a:custGeom>
            <a:avLst/>
            <a:gdLst>
              <a:gd name="textAreaLeft" fmla="*/ 49320 w 4643640"/>
              <a:gd name="textAreaRight" fmla="*/ 4594320 w 4643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31558" h="21600">
                <a:moveTo>
                  <a:pt x="0" y="0"/>
                </a:moveTo>
                <a:lnTo>
                  <a:pt x="131558" y="0"/>
                </a:lnTo>
                <a:lnTo>
                  <a:pt x="131558" y="21600"/>
                </a:lnTo>
                <a:lnTo>
                  <a:pt x="0" y="21600"/>
                </a:lnTo>
                <a:close/>
              </a:path>
              <a:path fill="lightenLess" w="131558" h="21600">
                <a:moveTo>
                  <a:pt x="0" y="0"/>
                </a:moveTo>
                <a:lnTo>
                  <a:pt x="131558" y="0"/>
                </a:lnTo>
                <a:lnTo>
                  <a:pt x="130158" y="1400"/>
                </a:lnTo>
                <a:lnTo>
                  <a:pt x="1400" y="1400"/>
                </a:lnTo>
                <a:close/>
              </a:path>
              <a:path fill="darken" w="131558" h="21600">
                <a:moveTo>
                  <a:pt x="131558" y="0"/>
                </a:moveTo>
                <a:lnTo>
                  <a:pt x="131558" y="21600"/>
                </a:lnTo>
                <a:lnTo>
                  <a:pt x="130158" y="20200"/>
                </a:lnTo>
                <a:lnTo>
                  <a:pt x="130158" y="1400"/>
                </a:lnTo>
                <a:close/>
              </a:path>
              <a:path fill="darkenLess" w="131558" h="21600">
                <a:moveTo>
                  <a:pt x="131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158" y="20200"/>
                </a:lnTo>
                <a:close/>
              </a:path>
              <a:path fill="lighten" w="131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1.4.1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命令构成的基本格式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2286000"/>
            <a:ext cx="4643640" cy="762120"/>
          </a:xfrm>
          <a:custGeom>
            <a:avLst/>
            <a:gdLst>
              <a:gd name="textAreaLeft" fmla="*/ 49320 w 4643640"/>
              <a:gd name="textAreaRight" fmla="*/ 4594320 w 4643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31558" h="21600">
                <a:moveTo>
                  <a:pt x="0" y="0"/>
                </a:moveTo>
                <a:lnTo>
                  <a:pt x="131558" y="0"/>
                </a:lnTo>
                <a:lnTo>
                  <a:pt x="131558" y="21600"/>
                </a:lnTo>
                <a:lnTo>
                  <a:pt x="0" y="21600"/>
                </a:lnTo>
                <a:close/>
              </a:path>
              <a:path fill="lightenLess" w="131558" h="21600">
                <a:moveTo>
                  <a:pt x="0" y="0"/>
                </a:moveTo>
                <a:lnTo>
                  <a:pt x="131558" y="0"/>
                </a:lnTo>
                <a:lnTo>
                  <a:pt x="130158" y="1400"/>
                </a:lnTo>
                <a:lnTo>
                  <a:pt x="1400" y="1400"/>
                </a:lnTo>
                <a:close/>
              </a:path>
              <a:path fill="darken" w="131558" h="21600">
                <a:moveTo>
                  <a:pt x="131558" y="0"/>
                </a:moveTo>
                <a:lnTo>
                  <a:pt x="131558" y="21600"/>
                </a:lnTo>
                <a:lnTo>
                  <a:pt x="130158" y="20200"/>
                </a:lnTo>
                <a:lnTo>
                  <a:pt x="130158" y="1400"/>
                </a:lnTo>
                <a:close/>
              </a:path>
              <a:path fill="darkenLess" w="131558" h="21600">
                <a:moveTo>
                  <a:pt x="131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158" y="20200"/>
                </a:lnTo>
                <a:close/>
              </a:path>
              <a:path fill="lighten" w="131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1.4.2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有关规则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2438280" y="3200400"/>
            <a:ext cx="4643640" cy="762120"/>
          </a:xfrm>
          <a:custGeom>
            <a:avLst/>
            <a:gdLst>
              <a:gd name="textAreaLeft" fmla="*/ 49320 w 4643640"/>
              <a:gd name="textAreaRight" fmla="*/ 4594320 w 4643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31558" h="21600">
                <a:moveTo>
                  <a:pt x="0" y="0"/>
                </a:moveTo>
                <a:lnTo>
                  <a:pt x="131558" y="0"/>
                </a:lnTo>
                <a:lnTo>
                  <a:pt x="131558" y="21600"/>
                </a:lnTo>
                <a:lnTo>
                  <a:pt x="0" y="21600"/>
                </a:lnTo>
                <a:close/>
              </a:path>
              <a:path fill="lightenLess" w="131558" h="21600">
                <a:moveTo>
                  <a:pt x="0" y="0"/>
                </a:moveTo>
                <a:lnTo>
                  <a:pt x="131558" y="0"/>
                </a:lnTo>
                <a:lnTo>
                  <a:pt x="130158" y="1400"/>
                </a:lnTo>
                <a:lnTo>
                  <a:pt x="1400" y="1400"/>
                </a:lnTo>
                <a:close/>
              </a:path>
              <a:path fill="darken" w="131558" h="21600">
                <a:moveTo>
                  <a:pt x="131558" y="0"/>
                </a:moveTo>
                <a:lnTo>
                  <a:pt x="131558" y="21600"/>
                </a:lnTo>
                <a:lnTo>
                  <a:pt x="130158" y="20200"/>
                </a:lnTo>
                <a:lnTo>
                  <a:pt x="130158" y="1400"/>
                </a:lnTo>
                <a:close/>
              </a:path>
              <a:path fill="darkenLess" w="131558" h="21600">
                <a:moveTo>
                  <a:pt x="131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158" y="20200"/>
                </a:lnTo>
                <a:close/>
              </a:path>
              <a:path fill="lighten" w="131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1.4.3   VFP6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文件命名方法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3" name="">
            <a:hlinkClick r:id="rId3" action="ppaction://hlinksldjump"/>
          </p:cNvPr>
          <p:cNvSpPr/>
          <p:nvPr/>
        </p:nvSpPr>
        <p:spPr>
          <a:xfrm>
            <a:off x="2438280" y="4114800"/>
            <a:ext cx="4643640" cy="762120"/>
          </a:xfrm>
          <a:custGeom>
            <a:avLst/>
            <a:gdLst>
              <a:gd name="textAreaLeft" fmla="*/ 49320 w 4643640"/>
              <a:gd name="textAreaRight" fmla="*/ 4594320 w 46436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31558" h="21600">
                <a:moveTo>
                  <a:pt x="0" y="0"/>
                </a:moveTo>
                <a:lnTo>
                  <a:pt x="131558" y="0"/>
                </a:lnTo>
                <a:lnTo>
                  <a:pt x="131558" y="21600"/>
                </a:lnTo>
                <a:lnTo>
                  <a:pt x="0" y="21600"/>
                </a:lnTo>
                <a:close/>
              </a:path>
              <a:path fill="lightenLess" w="131558" h="21600">
                <a:moveTo>
                  <a:pt x="0" y="0"/>
                </a:moveTo>
                <a:lnTo>
                  <a:pt x="131558" y="0"/>
                </a:lnTo>
                <a:lnTo>
                  <a:pt x="130158" y="1400"/>
                </a:lnTo>
                <a:lnTo>
                  <a:pt x="1400" y="1400"/>
                </a:lnTo>
                <a:close/>
              </a:path>
              <a:path fill="darken" w="131558" h="21600">
                <a:moveTo>
                  <a:pt x="131558" y="0"/>
                </a:moveTo>
                <a:lnTo>
                  <a:pt x="131558" y="21600"/>
                </a:lnTo>
                <a:lnTo>
                  <a:pt x="130158" y="20200"/>
                </a:lnTo>
                <a:lnTo>
                  <a:pt x="130158" y="1400"/>
                </a:lnTo>
                <a:close/>
              </a:path>
              <a:path fill="darkenLess" w="131558" h="21600">
                <a:moveTo>
                  <a:pt x="131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158" y="20200"/>
                </a:lnTo>
                <a:close/>
              </a:path>
              <a:path fill="lighten" w="131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命令书写的有关约定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4" name="">
            <a:hlinkClick r:id="rId4" action="ppaction://hlinksldjump"/>
          </p:cNvPr>
          <p:cNvSpPr/>
          <p:nvPr/>
        </p:nvSpPr>
        <p:spPr>
          <a:xfrm>
            <a:off x="2438280" y="502920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返       回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5257800" y="5029200"/>
            <a:ext cx="1828800" cy="762120"/>
          </a:xfrm>
          <a:custGeom>
            <a:avLst/>
            <a:gdLst>
              <a:gd name="textAreaLeft" fmla="*/ 49320 w 1828800"/>
              <a:gd name="textAreaRight" fmla="*/ 1779480 w 1828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818" h="21600">
                <a:moveTo>
                  <a:pt x="0" y="0"/>
                </a:moveTo>
                <a:lnTo>
                  <a:pt x="51818" y="0"/>
                </a:lnTo>
                <a:lnTo>
                  <a:pt x="51818" y="21600"/>
                </a:lnTo>
                <a:lnTo>
                  <a:pt x="0" y="21600"/>
                </a:lnTo>
                <a:close/>
              </a:path>
              <a:path fill="lightenLess" w="51818" h="21600">
                <a:moveTo>
                  <a:pt x="0" y="0"/>
                </a:moveTo>
                <a:lnTo>
                  <a:pt x="51818" y="0"/>
                </a:lnTo>
                <a:lnTo>
                  <a:pt x="50418" y="1400"/>
                </a:lnTo>
                <a:lnTo>
                  <a:pt x="1400" y="1400"/>
                </a:lnTo>
                <a:close/>
              </a:path>
              <a:path fill="darken" w="51818" h="21600">
                <a:moveTo>
                  <a:pt x="51818" y="0"/>
                </a:moveTo>
                <a:lnTo>
                  <a:pt x="51818" y="21600"/>
                </a:lnTo>
                <a:lnTo>
                  <a:pt x="50418" y="20200"/>
                </a:lnTo>
                <a:lnTo>
                  <a:pt x="50418" y="1400"/>
                </a:lnTo>
                <a:close/>
              </a:path>
              <a:path fill="darkenLess" w="51818" h="21600">
                <a:moveTo>
                  <a:pt x="5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8" y="20200"/>
                </a:lnTo>
                <a:close/>
              </a:path>
              <a:path fill="lighten" w="5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aca9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aca9c"/>
                </a:solidFill>
                <a:latin typeface="Times New Roman"/>
              </a:rPr>
              <a:t>退       出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1184-4F0A-465C-971D-BA41666C9D0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A8A2B-A4F5-4331-8307-EDAF19B42B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305440" y="136440"/>
            <a:ext cx="45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6ab94"/>
                </a:solidFill>
                <a:latin typeface="Times New Roman"/>
              </a:rPr>
              <a:t>1.4.1   </a:t>
            </a:r>
            <a:r>
              <a:rPr b="1" lang="zh-CN" sz="4000" spc="-1" strike="noStrike">
                <a:solidFill>
                  <a:srgbClr val="96ab94"/>
                </a:solidFill>
                <a:latin typeface="Times New Roman"/>
              </a:rPr>
              <a:t>命令构成的基本格式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81520" y="932040"/>
            <a:ext cx="7122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               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示       例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USE Grad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COUNT ALL FOR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课程成绩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lt;60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LIST ALL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姓名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课程成绩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FOR ;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课程成绩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lt;60 TO PRIN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US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3809880"/>
            <a:ext cx="811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条命令：打开名为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GRADE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的表文件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条命令：统计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GRADE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中分数在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60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分以下的人数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条命令：在打印机上输出成绩为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60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分以下的学生的姓名和分数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条命令：关闭表文件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GRADE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，将其保存在磁盘上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41200" y="30481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这四条命令的功能分别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F624-AA7B-4F10-8342-9CC1804A719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17452-248C-418D-9533-99DE20B6C1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982960" y="182520"/>
            <a:ext cx="33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Visual FoxPro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的一般语法式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917640"/>
            <a:ext cx="7970760" cy="3933360"/>
          </a:xfrm>
          <a:prstGeom prst="rect">
            <a:avLst/>
          </a:prstGeom>
          <a:solidFill>
            <a:srgbClr val="006666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命令动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[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表达式表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]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[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范围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]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[FOR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条件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]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[WHILE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条件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]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[TO FILE 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文件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/TO PRINTER/TO ARRAY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；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数组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/TO 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内存变量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]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[ALL [LIKE/EXCEPT 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通配符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]]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[IN &lt;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别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&gt;]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2560" y="5029200"/>
            <a:ext cx="485640" cy="45972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可以将命令分为八个部分，即每个顶头行为一个部分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241D-61B5-44E8-808F-8D62342C414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1A00C-2799-46F4-BCA8-7A0DA90E52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522240" y="76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各部分的意义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49800" y="685800"/>
            <a:ext cx="25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命令动词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它是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的命令名，用来指示计算机要完成的操作 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1066680"/>
            <a:ext cx="80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表达式表：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用来指示计算机执行该命令所操作的结果参数。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760" y="1447920"/>
            <a:ext cx="80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范围：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指定命令可以操作的记录集。范围有下列四种选择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3800" y="1954080"/>
            <a:ext cx="5538960" cy="1313640"/>
          </a:xfrm>
          <a:prstGeom prst="rect">
            <a:avLst/>
          </a:prstGeom>
          <a:solidFill>
            <a:srgbClr val="006666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ALL                  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当前表中的全部记录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NEXT &lt;n&gt;       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从当前记录开始的连续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条记录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RECORD &lt;n&gt; 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当前表中的第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号记录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REST                  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从当前记录开始到最后一条记录为止的所有记录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95400" y="331776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FOR &lt;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条件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它规定只对满足条件的记录进行操作 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9120" y="3733920"/>
            <a:ext cx="87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WHILE &lt;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条件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从当前记录开始，按记录顺序从上向下处理，一旦遇到不满足条件的记录，就停止搜索并结束该命令的执行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57280" y="4495680"/>
            <a:ext cx="14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TO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子句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它控制操作结果的输出去向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4952880"/>
            <a:ext cx="86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ALL [LIKE/EXCEPT &lt;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通配符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&gt;]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它指出包括或不包括与通配符相匹配的文件、字段或内存变量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571500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IN &lt;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别名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工作区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它允许在当前工作区操作指定工作区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6629400" y="6218280"/>
            <a:ext cx="1042920" cy="41112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65" h="21600">
                <a:moveTo>
                  <a:pt x="0" y="0"/>
                </a:moveTo>
                <a:lnTo>
                  <a:pt x="54765" y="0"/>
                </a:lnTo>
                <a:lnTo>
                  <a:pt x="54765" y="21600"/>
                </a:lnTo>
                <a:lnTo>
                  <a:pt x="0" y="21600"/>
                </a:lnTo>
                <a:close/>
              </a:path>
              <a:path fill="lightenLess" w="54765" h="21600">
                <a:moveTo>
                  <a:pt x="0" y="0"/>
                </a:moveTo>
                <a:lnTo>
                  <a:pt x="54765" y="0"/>
                </a:lnTo>
                <a:lnTo>
                  <a:pt x="53365" y="1400"/>
                </a:lnTo>
                <a:lnTo>
                  <a:pt x="1400" y="1400"/>
                </a:lnTo>
                <a:close/>
              </a:path>
              <a:path fill="darken" w="54765" h="21600">
                <a:moveTo>
                  <a:pt x="54765" y="0"/>
                </a:moveTo>
                <a:lnTo>
                  <a:pt x="54765" y="21600"/>
                </a:lnTo>
                <a:lnTo>
                  <a:pt x="53365" y="20200"/>
                </a:lnTo>
                <a:lnTo>
                  <a:pt x="53365" y="1400"/>
                </a:lnTo>
                <a:close/>
              </a:path>
              <a:path fill="darkenLess" w="54765" h="21600">
                <a:moveTo>
                  <a:pt x="5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65" y="20200"/>
                </a:lnTo>
                <a:close/>
              </a:path>
              <a:path fill="lighten" w="5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7120" y="1066680"/>
            <a:ext cx="1395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7120" y="1447920"/>
            <a:ext cx="1395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7120" y="1905120"/>
            <a:ext cx="862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7120" y="3733920"/>
            <a:ext cx="1776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7120" y="4114800"/>
            <a:ext cx="2233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7120" y="4876920"/>
            <a:ext cx="1395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7120" y="5334120"/>
            <a:ext cx="4519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7120" y="6172200"/>
            <a:ext cx="2670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ED8C-24C0-4A4F-9F3C-55E1FEF27557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4EB61-AF48-4088-9538-FF76A5097F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283920" y="228600"/>
            <a:ext cx="24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1.4.2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有关规则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5800" y="1098720"/>
            <a:ext cx="84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命令动词必须是命令行的第一个非空字符，各子句可以以任意顺序跟在动词后面，命令动词与子句、子句与子句之间用一个或多个空格隔开，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36640" y="2378160"/>
            <a:ext cx="38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命令动词和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VFP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保留字均可用前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个或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个以上字母简写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94336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命令行的总长度不得超过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2048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个字符（包括空格在内），若命令较长，在显示器上显示不下时，可以分几行写，但除最后一行以外，每行的未尾以“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;”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结束。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440" y="4282920"/>
            <a:ext cx="84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命令、关键字、变量名和文件名中的字母既可以大写也可以小写，还可以大写、小写混合，三者等效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6629400" y="6218280"/>
            <a:ext cx="1042920" cy="41112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65" h="21600">
                <a:moveTo>
                  <a:pt x="0" y="0"/>
                </a:moveTo>
                <a:lnTo>
                  <a:pt x="54765" y="0"/>
                </a:lnTo>
                <a:lnTo>
                  <a:pt x="54765" y="21600"/>
                </a:lnTo>
                <a:lnTo>
                  <a:pt x="0" y="21600"/>
                </a:lnTo>
                <a:close/>
              </a:path>
              <a:path fill="lightenLess" w="54765" h="21600">
                <a:moveTo>
                  <a:pt x="0" y="0"/>
                </a:moveTo>
                <a:lnTo>
                  <a:pt x="54765" y="0"/>
                </a:lnTo>
                <a:lnTo>
                  <a:pt x="53365" y="1400"/>
                </a:lnTo>
                <a:lnTo>
                  <a:pt x="1400" y="1400"/>
                </a:lnTo>
                <a:close/>
              </a:path>
              <a:path fill="darken" w="54765" h="21600">
                <a:moveTo>
                  <a:pt x="54765" y="0"/>
                </a:moveTo>
                <a:lnTo>
                  <a:pt x="54765" y="21600"/>
                </a:lnTo>
                <a:lnTo>
                  <a:pt x="53365" y="20200"/>
                </a:lnTo>
                <a:lnTo>
                  <a:pt x="53365" y="1400"/>
                </a:lnTo>
                <a:close/>
              </a:path>
              <a:path fill="darkenLess" w="54765" h="21600">
                <a:moveTo>
                  <a:pt x="5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65" y="20200"/>
                </a:lnTo>
                <a:close/>
              </a:path>
              <a:path fill="lighten" w="5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028-1ADA-4FB6-B65A-BF17237598E7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AD2CA-91CE-47E5-976D-87D3FB239E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1447920" y="1523880"/>
            <a:ext cx="6400800" cy="762120"/>
          </a:xfrm>
          <a:custGeom>
            <a:avLst/>
            <a:gdLst>
              <a:gd name="textAreaLeft" fmla="*/ 49320 w 6400800"/>
              <a:gd name="textAreaRight" fmla="*/ 6351480 w 6400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1336" h="21600">
                <a:moveTo>
                  <a:pt x="0" y="0"/>
                </a:moveTo>
                <a:lnTo>
                  <a:pt x="181336" y="0"/>
                </a:lnTo>
                <a:lnTo>
                  <a:pt x="181336" y="21600"/>
                </a:lnTo>
                <a:lnTo>
                  <a:pt x="0" y="21600"/>
                </a:lnTo>
                <a:close/>
              </a:path>
              <a:path fill="lightenLess" w="181336" h="21600">
                <a:moveTo>
                  <a:pt x="0" y="0"/>
                </a:moveTo>
                <a:lnTo>
                  <a:pt x="181336" y="0"/>
                </a:lnTo>
                <a:lnTo>
                  <a:pt x="179936" y="1400"/>
                </a:lnTo>
                <a:lnTo>
                  <a:pt x="1400" y="1400"/>
                </a:lnTo>
                <a:close/>
              </a:path>
              <a:path fill="darken" w="181336" h="21600">
                <a:moveTo>
                  <a:pt x="181336" y="0"/>
                </a:moveTo>
                <a:lnTo>
                  <a:pt x="181336" y="21600"/>
                </a:lnTo>
                <a:lnTo>
                  <a:pt x="179936" y="20200"/>
                </a:lnTo>
                <a:lnTo>
                  <a:pt x="179936" y="1400"/>
                </a:lnTo>
                <a:close/>
              </a:path>
              <a:path fill="darkenLess" w="181336" h="21600">
                <a:moveTo>
                  <a:pt x="181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9936" y="20200"/>
                </a:lnTo>
                <a:close/>
              </a:path>
              <a:path fill="lighten" w="181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1.1  Visual FoxPro 6.0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发展概述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1447920" y="2438280"/>
            <a:ext cx="6400800" cy="762120"/>
          </a:xfrm>
          <a:custGeom>
            <a:avLst/>
            <a:gdLst>
              <a:gd name="textAreaLeft" fmla="*/ 49320 w 6400800"/>
              <a:gd name="textAreaRight" fmla="*/ 6351480 w 6400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1336" h="21600">
                <a:moveTo>
                  <a:pt x="0" y="0"/>
                </a:moveTo>
                <a:lnTo>
                  <a:pt x="181336" y="0"/>
                </a:lnTo>
                <a:lnTo>
                  <a:pt x="181336" y="21600"/>
                </a:lnTo>
                <a:lnTo>
                  <a:pt x="0" y="21600"/>
                </a:lnTo>
                <a:close/>
              </a:path>
              <a:path fill="lightenLess" w="181336" h="21600">
                <a:moveTo>
                  <a:pt x="0" y="0"/>
                </a:moveTo>
                <a:lnTo>
                  <a:pt x="181336" y="0"/>
                </a:lnTo>
                <a:lnTo>
                  <a:pt x="179936" y="1400"/>
                </a:lnTo>
                <a:lnTo>
                  <a:pt x="1400" y="1400"/>
                </a:lnTo>
                <a:close/>
              </a:path>
              <a:path fill="darken" w="181336" h="21600">
                <a:moveTo>
                  <a:pt x="181336" y="0"/>
                </a:moveTo>
                <a:lnTo>
                  <a:pt x="181336" y="21600"/>
                </a:lnTo>
                <a:lnTo>
                  <a:pt x="179936" y="20200"/>
                </a:lnTo>
                <a:lnTo>
                  <a:pt x="179936" y="1400"/>
                </a:lnTo>
                <a:close/>
              </a:path>
              <a:path fill="darkenLess" w="181336" h="21600">
                <a:moveTo>
                  <a:pt x="181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9936" y="20200"/>
                </a:lnTo>
                <a:close/>
              </a:path>
              <a:path fill="lighten" w="181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1.2 Visual FoxPro 6.0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基础知识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1447920" y="3352680"/>
            <a:ext cx="6400800" cy="762120"/>
          </a:xfrm>
          <a:custGeom>
            <a:avLst/>
            <a:gdLst>
              <a:gd name="textAreaLeft" fmla="*/ 49320 w 6400800"/>
              <a:gd name="textAreaRight" fmla="*/ 6351480 w 6400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1336" h="21600">
                <a:moveTo>
                  <a:pt x="0" y="0"/>
                </a:moveTo>
                <a:lnTo>
                  <a:pt x="181336" y="0"/>
                </a:lnTo>
                <a:lnTo>
                  <a:pt x="181336" y="21600"/>
                </a:lnTo>
                <a:lnTo>
                  <a:pt x="0" y="21600"/>
                </a:lnTo>
                <a:close/>
              </a:path>
              <a:path fill="lightenLess" w="181336" h="21600">
                <a:moveTo>
                  <a:pt x="0" y="0"/>
                </a:moveTo>
                <a:lnTo>
                  <a:pt x="181336" y="0"/>
                </a:lnTo>
                <a:lnTo>
                  <a:pt x="179936" y="1400"/>
                </a:lnTo>
                <a:lnTo>
                  <a:pt x="1400" y="1400"/>
                </a:lnTo>
                <a:close/>
              </a:path>
              <a:path fill="darken" w="181336" h="21600">
                <a:moveTo>
                  <a:pt x="181336" y="0"/>
                </a:moveTo>
                <a:lnTo>
                  <a:pt x="181336" y="21600"/>
                </a:lnTo>
                <a:lnTo>
                  <a:pt x="179936" y="20200"/>
                </a:lnTo>
                <a:lnTo>
                  <a:pt x="179936" y="1400"/>
                </a:lnTo>
                <a:close/>
              </a:path>
              <a:path fill="darkenLess" w="181336" h="21600">
                <a:moveTo>
                  <a:pt x="181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9936" y="20200"/>
                </a:lnTo>
                <a:close/>
              </a:path>
              <a:path fill="lighten" w="181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1.3 Visual FoxPro 6.0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基本概念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1447920" y="4267080"/>
            <a:ext cx="6400800" cy="762120"/>
          </a:xfrm>
          <a:custGeom>
            <a:avLst/>
            <a:gdLst>
              <a:gd name="textAreaLeft" fmla="*/ 49320 w 6400800"/>
              <a:gd name="textAreaRight" fmla="*/ 6351480 w 6400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1336" h="21600">
                <a:moveTo>
                  <a:pt x="0" y="0"/>
                </a:moveTo>
                <a:lnTo>
                  <a:pt x="181336" y="0"/>
                </a:lnTo>
                <a:lnTo>
                  <a:pt x="181336" y="21600"/>
                </a:lnTo>
                <a:lnTo>
                  <a:pt x="0" y="21600"/>
                </a:lnTo>
                <a:close/>
              </a:path>
              <a:path fill="lightenLess" w="181336" h="21600">
                <a:moveTo>
                  <a:pt x="0" y="0"/>
                </a:moveTo>
                <a:lnTo>
                  <a:pt x="181336" y="0"/>
                </a:lnTo>
                <a:lnTo>
                  <a:pt x="179936" y="1400"/>
                </a:lnTo>
                <a:lnTo>
                  <a:pt x="1400" y="1400"/>
                </a:lnTo>
                <a:close/>
              </a:path>
              <a:path fill="darken" w="181336" h="21600">
                <a:moveTo>
                  <a:pt x="181336" y="0"/>
                </a:moveTo>
                <a:lnTo>
                  <a:pt x="181336" y="21600"/>
                </a:lnTo>
                <a:lnTo>
                  <a:pt x="179936" y="20200"/>
                </a:lnTo>
                <a:lnTo>
                  <a:pt x="179936" y="1400"/>
                </a:lnTo>
                <a:close/>
              </a:path>
              <a:path fill="darkenLess" w="181336" h="21600">
                <a:moveTo>
                  <a:pt x="181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9936" y="20200"/>
                </a:lnTo>
                <a:close/>
              </a:path>
              <a:path fill="lighten" w="181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1.4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文件命名方法和命令构成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5181480"/>
            <a:ext cx="2743200" cy="762120"/>
          </a:xfrm>
          <a:custGeom>
            <a:avLst/>
            <a:gdLst>
              <a:gd name="textAreaLeft" fmla="*/ 49320 w 2743200"/>
              <a:gd name="textAreaRight" fmla="*/ 2693880 w 274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c0c0"/>
                </a:solidFill>
                <a:latin typeface="Times New Roman"/>
              </a:rPr>
              <a:t>返          回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60240" y="380880"/>
            <a:ext cx="623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华文新魏"/>
              </a:rPr>
              <a:t>第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华文新魏"/>
              </a:rPr>
              <a:t>章    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华文新魏"/>
              </a:rPr>
              <a:t>Visual FoxPro 6.0 </a:t>
            </a: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华文新魏"/>
              </a:rPr>
              <a:t>概述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endshow"/>
          </p:cNvPr>
          <p:cNvSpPr/>
          <p:nvPr/>
        </p:nvSpPr>
        <p:spPr>
          <a:xfrm>
            <a:off x="5105520" y="5181480"/>
            <a:ext cx="2743200" cy="762120"/>
          </a:xfrm>
          <a:custGeom>
            <a:avLst/>
            <a:gdLst>
              <a:gd name="textAreaLeft" fmla="*/ 49320 w 2743200"/>
              <a:gd name="textAreaRight" fmla="*/ 2693880 w 274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c0c0"/>
                </a:solidFill>
                <a:latin typeface="Times New Roman"/>
              </a:rPr>
              <a:t>退          出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B67-6F7C-4CA0-9945-107E61BABD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5E039-E1F6-4548-B40A-C5D54D7D4831}" type="datetime1">
              <a:rPr lang="en-US"/>
              <a:t>07/29/26</a:t>
            </a:fld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55280" y="247680"/>
            <a:ext cx="39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1.4.3   VFP6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文件命名方法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047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文件名由主文件名和扩展名两部分组成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主文件名最长由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个字符组成，可以包括字母、数字、下划线、连字符，但不能使用“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*”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“？”、“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/”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等。但加入到了数据库中的表和字段名均支持长文件名，最长为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28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个字符。扩展名由“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.”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加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个字母组成，表示文件类型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52720" y="320040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ABC_DE-f1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819520" y="3657240"/>
            <a:ext cx="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63040" y="4211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主文件名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33840" y="3200400"/>
            <a:ext cx="8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.DBF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733920" y="3657240"/>
            <a:ext cx="0" cy="101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69240" y="4668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分隔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280040" y="3657240"/>
            <a:ext cx="0" cy="1468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15360" y="504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扩展名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503600" y="3429000"/>
            <a:ext cx="9828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30639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文件名中可以大、小写字母子混合使用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6629400" y="6218280"/>
            <a:ext cx="1042920" cy="41112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65" h="21600">
                <a:moveTo>
                  <a:pt x="0" y="0"/>
                </a:moveTo>
                <a:lnTo>
                  <a:pt x="54765" y="0"/>
                </a:lnTo>
                <a:lnTo>
                  <a:pt x="54765" y="21600"/>
                </a:lnTo>
                <a:lnTo>
                  <a:pt x="0" y="21600"/>
                </a:lnTo>
                <a:close/>
              </a:path>
              <a:path fill="lightenLess" w="54765" h="21600">
                <a:moveTo>
                  <a:pt x="0" y="0"/>
                </a:moveTo>
                <a:lnTo>
                  <a:pt x="54765" y="0"/>
                </a:lnTo>
                <a:lnTo>
                  <a:pt x="53365" y="1400"/>
                </a:lnTo>
                <a:lnTo>
                  <a:pt x="1400" y="1400"/>
                </a:lnTo>
                <a:close/>
              </a:path>
              <a:path fill="darken" w="54765" h="21600">
                <a:moveTo>
                  <a:pt x="54765" y="0"/>
                </a:moveTo>
                <a:lnTo>
                  <a:pt x="54765" y="21600"/>
                </a:lnTo>
                <a:lnTo>
                  <a:pt x="53365" y="20200"/>
                </a:lnTo>
                <a:lnTo>
                  <a:pt x="53365" y="1400"/>
                </a:lnTo>
                <a:close/>
              </a:path>
              <a:path fill="darkenLess" w="54765" h="21600">
                <a:moveTo>
                  <a:pt x="5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65" y="20200"/>
                </a:lnTo>
                <a:close/>
              </a:path>
              <a:path fill="lighten" w="5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885B-0742-44AC-A438-E219F04CED85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9B165-0C4A-45A4-8CC5-192622A540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90960" y="422280"/>
            <a:ext cx="3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命令、函数符号的约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06240" y="110808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[]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：其中的内容是可选项，不选时系统自动取缺省值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9160" y="1870200"/>
            <a:ext cx="80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&lt;&gt;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：其中的内容是用户的选择项，通常有多种可能供用户选择一种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43120" y="2936880"/>
            <a:ext cx="79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：为二选一表示符。要求用户从本符号的左右两项中选择一项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5160" y="3927600"/>
            <a:ext cx="822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：省略符。它表示在一个命令或函数表达式中，某一部分可以按同一方式重复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6629400" y="6218280"/>
            <a:ext cx="1042920" cy="41112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65" h="21600">
                <a:moveTo>
                  <a:pt x="0" y="0"/>
                </a:moveTo>
                <a:lnTo>
                  <a:pt x="54765" y="0"/>
                </a:lnTo>
                <a:lnTo>
                  <a:pt x="54765" y="21600"/>
                </a:lnTo>
                <a:lnTo>
                  <a:pt x="0" y="21600"/>
                </a:lnTo>
                <a:close/>
              </a:path>
              <a:path fill="lightenLess" w="54765" h="21600">
                <a:moveTo>
                  <a:pt x="0" y="0"/>
                </a:moveTo>
                <a:lnTo>
                  <a:pt x="54765" y="0"/>
                </a:lnTo>
                <a:lnTo>
                  <a:pt x="53365" y="1400"/>
                </a:lnTo>
                <a:lnTo>
                  <a:pt x="1400" y="1400"/>
                </a:lnTo>
                <a:close/>
              </a:path>
              <a:path fill="darken" w="54765" h="21600">
                <a:moveTo>
                  <a:pt x="54765" y="0"/>
                </a:moveTo>
                <a:lnTo>
                  <a:pt x="54765" y="21600"/>
                </a:lnTo>
                <a:lnTo>
                  <a:pt x="53365" y="20200"/>
                </a:lnTo>
                <a:lnTo>
                  <a:pt x="53365" y="1400"/>
                </a:lnTo>
                <a:close/>
              </a:path>
              <a:path fill="darkenLess" w="54765" h="21600">
                <a:moveTo>
                  <a:pt x="5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65" y="20200"/>
                </a:lnTo>
                <a:close/>
              </a:path>
              <a:path fill="lighten" w="5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86C-E558-47D8-8E0E-2938FA21095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E74DB-7515-426A-882B-F46F75F11C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588480" y="4255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bfa"/>
                </a:solidFill>
                <a:latin typeface="Times New Roman"/>
              </a:rPr>
              <a:t>小    结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37800" y="1122480"/>
            <a:ext cx="56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从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FoxBASE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开始发展大致经过了八个阶段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2880" y="160020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对系统的要求不高，本书以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Windows98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为系统平台介绍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的使用方法，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功能强大，使用简单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2880" y="22860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3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的启动可以通过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Windows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的开始菜单、桌面快捷方式、直接运行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.EXE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、或任意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文件实现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2880" y="29718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退出可以通过在命令窗口中执行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QUIT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、系统菜单的退出菜单项或主窗口的“关闭”按钮实现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2880" y="365760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5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的文件类型很多，重点掌握所介绍的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12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种常用类型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2880" y="403848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的数据类型也很多，应重点掌握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种常用数据类型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44197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7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、应掌握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的一些基本概念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48006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8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VFP6</a:t>
            </a:r>
            <a:r>
              <a:rPr b="0" lang="zh-CN" sz="2400" spc="-1" strike="noStrike">
                <a:solidFill>
                  <a:srgbClr val="463634"/>
                </a:solidFill>
                <a:latin typeface="隶书"/>
                <a:ea typeface="隶书"/>
              </a:rPr>
              <a:t>的命令一般由八个部分构成，除命令动词以外，其它子句的位置可以任意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4952880" y="5684760"/>
            <a:ext cx="1043280" cy="411120"/>
          </a:xfrm>
          <a:custGeom>
            <a:avLst/>
            <a:gdLst>
              <a:gd name="textAreaLeft" fmla="*/ 26640 w 1043280"/>
              <a:gd name="textAreaRight" fmla="*/ 1016640 w 104328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84" h="21600">
                <a:moveTo>
                  <a:pt x="0" y="0"/>
                </a:moveTo>
                <a:lnTo>
                  <a:pt x="54784" y="0"/>
                </a:lnTo>
                <a:lnTo>
                  <a:pt x="54784" y="21600"/>
                </a:lnTo>
                <a:lnTo>
                  <a:pt x="0" y="21600"/>
                </a:lnTo>
                <a:close/>
              </a:path>
              <a:path fill="lightenLess" w="54784" h="21600">
                <a:moveTo>
                  <a:pt x="0" y="0"/>
                </a:moveTo>
                <a:lnTo>
                  <a:pt x="54784" y="0"/>
                </a:lnTo>
                <a:lnTo>
                  <a:pt x="53384" y="1400"/>
                </a:lnTo>
                <a:lnTo>
                  <a:pt x="1400" y="1400"/>
                </a:lnTo>
                <a:close/>
              </a:path>
              <a:path fill="darken" w="54784" h="21600">
                <a:moveTo>
                  <a:pt x="54784" y="0"/>
                </a:moveTo>
                <a:lnTo>
                  <a:pt x="54784" y="21600"/>
                </a:lnTo>
                <a:lnTo>
                  <a:pt x="53384" y="20200"/>
                </a:lnTo>
                <a:lnTo>
                  <a:pt x="53384" y="1400"/>
                </a:lnTo>
                <a:close/>
              </a:path>
              <a:path fill="darkenLess" w="54784" h="21600">
                <a:moveTo>
                  <a:pt x="54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84" y="20200"/>
                </a:lnTo>
                <a:close/>
              </a:path>
              <a:path fill="lighten" w="54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  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endshow"/>
          </p:cNvPr>
          <p:cNvSpPr/>
          <p:nvPr/>
        </p:nvSpPr>
        <p:spPr>
          <a:xfrm>
            <a:off x="6958080" y="5684760"/>
            <a:ext cx="1042920" cy="41112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65" h="21600">
                <a:moveTo>
                  <a:pt x="0" y="0"/>
                </a:moveTo>
                <a:lnTo>
                  <a:pt x="54765" y="0"/>
                </a:lnTo>
                <a:lnTo>
                  <a:pt x="54765" y="21600"/>
                </a:lnTo>
                <a:lnTo>
                  <a:pt x="0" y="21600"/>
                </a:lnTo>
                <a:close/>
              </a:path>
              <a:path fill="lightenLess" w="54765" h="21600">
                <a:moveTo>
                  <a:pt x="0" y="0"/>
                </a:moveTo>
                <a:lnTo>
                  <a:pt x="54765" y="0"/>
                </a:lnTo>
                <a:lnTo>
                  <a:pt x="53365" y="1400"/>
                </a:lnTo>
                <a:lnTo>
                  <a:pt x="1400" y="1400"/>
                </a:lnTo>
                <a:close/>
              </a:path>
              <a:path fill="darken" w="54765" h="21600">
                <a:moveTo>
                  <a:pt x="54765" y="0"/>
                </a:moveTo>
                <a:lnTo>
                  <a:pt x="54765" y="21600"/>
                </a:lnTo>
                <a:lnTo>
                  <a:pt x="53365" y="20200"/>
                </a:lnTo>
                <a:lnTo>
                  <a:pt x="53365" y="1400"/>
                </a:lnTo>
                <a:close/>
              </a:path>
              <a:path fill="darkenLess" w="54765" h="21600">
                <a:moveTo>
                  <a:pt x="5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65" y="20200"/>
                </a:lnTo>
                <a:close/>
              </a:path>
              <a:path fill="lighten" w="5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退  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E212-2CF3-4F0D-A006-99DE1100C4D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27DD9-6246-454C-B15D-0E7B704FD5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411120"/>
            <a:ext cx="7239240" cy="55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1.1  Visual FoxPro 6.0</a:t>
            </a: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发展概述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1986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月推出了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FoxBASE+ 1.0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版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1987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月推出了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FoxBASE+ 2.0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版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1988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月推出了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FoxBASE+ 2.1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版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1992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年下半年推出了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FoxPro 2.5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版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1994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年下半年推出了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FoxPro 2.6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版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1995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月推出了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Visual FoxPro 3.0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1996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月推出了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Visual FoxPro5.0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1998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月推出了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Visual FoxPro6.0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6958080" y="6141960"/>
            <a:ext cx="1042920" cy="41112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65" h="21600">
                <a:moveTo>
                  <a:pt x="0" y="0"/>
                </a:moveTo>
                <a:lnTo>
                  <a:pt x="54765" y="0"/>
                </a:lnTo>
                <a:lnTo>
                  <a:pt x="54765" y="21600"/>
                </a:lnTo>
                <a:lnTo>
                  <a:pt x="0" y="21600"/>
                </a:lnTo>
                <a:close/>
              </a:path>
              <a:path fill="lightenLess" w="54765" h="21600">
                <a:moveTo>
                  <a:pt x="0" y="0"/>
                </a:moveTo>
                <a:lnTo>
                  <a:pt x="54765" y="0"/>
                </a:lnTo>
                <a:lnTo>
                  <a:pt x="53365" y="1400"/>
                </a:lnTo>
                <a:lnTo>
                  <a:pt x="1400" y="1400"/>
                </a:lnTo>
                <a:close/>
              </a:path>
              <a:path fill="darken" w="54765" h="21600">
                <a:moveTo>
                  <a:pt x="54765" y="0"/>
                </a:moveTo>
                <a:lnTo>
                  <a:pt x="54765" y="21600"/>
                </a:lnTo>
                <a:lnTo>
                  <a:pt x="53365" y="20200"/>
                </a:lnTo>
                <a:lnTo>
                  <a:pt x="53365" y="1400"/>
                </a:lnTo>
                <a:close/>
              </a:path>
              <a:path fill="darkenLess" w="54765" h="21600">
                <a:moveTo>
                  <a:pt x="5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65" y="20200"/>
                </a:lnTo>
                <a:close/>
              </a:path>
              <a:path fill="lighten" w="5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B41-B604-4A10-989A-34AAA5FD321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4CFAB-E74A-477C-BA4A-6345EB708A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35760" y="457200"/>
            <a:ext cx="64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2  Visual FoxPro 6.0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基础知识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1447920" y="1523880"/>
            <a:ext cx="6629400" cy="762120"/>
          </a:xfrm>
          <a:custGeom>
            <a:avLst/>
            <a:gdLst>
              <a:gd name="textAreaLeft" fmla="*/ 49320 w 6629400"/>
              <a:gd name="textAreaRight" fmla="*/ 6580080 w 6629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7812" h="21600">
                <a:moveTo>
                  <a:pt x="0" y="0"/>
                </a:moveTo>
                <a:lnTo>
                  <a:pt x="187812" y="0"/>
                </a:lnTo>
                <a:lnTo>
                  <a:pt x="187812" y="21600"/>
                </a:lnTo>
                <a:lnTo>
                  <a:pt x="0" y="21600"/>
                </a:lnTo>
                <a:close/>
              </a:path>
              <a:path fill="lightenLess" w="187812" h="21600">
                <a:moveTo>
                  <a:pt x="0" y="0"/>
                </a:moveTo>
                <a:lnTo>
                  <a:pt x="187812" y="0"/>
                </a:lnTo>
                <a:lnTo>
                  <a:pt x="186412" y="1400"/>
                </a:lnTo>
                <a:lnTo>
                  <a:pt x="1400" y="1400"/>
                </a:lnTo>
                <a:close/>
              </a:path>
              <a:path fill="darken" w="187812" h="21600">
                <a:moveTo>
                  <a:pt x="187812" y="0"/>
                </a:moveTo>
                <a:lnTo>
                  <a:pt x="187812" y="21600"/>
                </a:lnTo>
                <a:lnTo>
                  <a:pt x="186412" y="20200"/>
                </a:lnTo>
                <a:lnTo>
                  <a:pt x="186412" y="1400"/>
                </a:lnTo>
                <a:close/>
              </a:path>
              <a:path fill="darkenLess" w="187812" h="21600">
                <a:moveTo>
                  <a:pt x="18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6412" y="20200"/>
                </a:lnTo>
                <a:close/>
              </a:path>
              <a:path fill="lighten" w="18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1.2.1 VFP6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系统的环境及安装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438280"/>
            <a:ext cx="6629400" cy="762120"/>
          </a:xfrm>
          <a:custGeom>
            <a:avLst/>
            <a:gdLst>
              <a:gd name="textAreaLeft" fmla="*/ 49320 w 6629400"/>
              <a:gd name="textAreaRight" fmla="*/ 6580080 w 6629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7812" h="21600">
                <a:moveTo>
                  <a:pt x="0" y="0"/>
                </a:moveTo>
                <a:lnTo>
                  <a:pt x="187812" y="0"/>
                </a:lnTo>
                <a:lnTo>
                  <a:pt x="187812" y="21600"/>
                </a:lnTo>
                <a:lnTo>
                  <a:pt x="0" y="21600"/>
                </a:lnTo>
                <a:close/>
              </a:path>
              <a:path fill="lightenLess" w="187812" h="21600">
                <a:moveTo>
                  <a:pt x="0" y="0"/>
                </a:moveTo>
                <a:lnTo>
                  <a:pt x="187812" y="0"/>
                </a:lnTo>
                <a:lnTo>
                  <a:pt x="186412" y="1400"/>
                </a:lnTo>
                <a:lnTo>
                  <a:pt x="1400" y="1400"/>
                </a:lnTo>
                <a:close/>
              </a:path>
              <a:path fill="darken" w="187812" h="21600">
                <a:moveTo>
                  <a:pt x="187812" y="0"/>
                </a:moveTo>
                <a:lnTo>
                  <a:pt x="187812" y="21600"/>
                </a:lnTo>
                <a:lnTo>
                  <a:pt x="186412" y="20200"/>
                </a:lnTo>
                <a:lnTo>
                  <a:pt x="186412" y="1400"/>
                </a:lnTo>
                <a:close/>
              </a:path>
              <a:path fill="darkenLess" w="187812" h="21600">
                <a:moveTo>
                  <a:pt x="18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6412" y="20200"/>
                </a:lnTo>
                <a:close/>
              </a:path>
              <a:path fill="lighten" w="18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1.2.2  VFP6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系统的常用文件类型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352680"/>
            <a:ext cx="6629400" cy="762120"/>
          </a:xfrm>
          <a:custGeom>
            <a:avLst/>
            <a:gdLst>
              <a:gd name="textAreaLeft" fmla="*/ 49320 w 6629400"/>
              <a:gd name="textAreaRight" fmla="*/ 6580080 w 6629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7812" h="21600">
                <a:moveTo>
                  <a:pt x="0" y="0"/>
                </a:moveTo>
                <a:lnTo>
                  <a:pt x="187812" y="0"/>
                </a:lnTo>
                <a:lnTo>
                  <a:pt x="187812" y="21600"/>
                </a:lnTo>
                <a:lnTo>
                  <a:pt x="0" y="21600"/>
                </a:lnTo>
                <a:close/>
              </a:path>
              <a:path fill="lightenLess" w="187812" h="21600">
                <a:moveTo>
                  <a:pt x="0" y="0"/>
                </a:moveTo>
                <a:lnTo>
                  <a:pt x="187812" y="0"/>
                </a:lnTo>
                <a:lnTo>
                  <a:pt x="186412" y="1400"/>
                </a:lnTo>
                <a:lnTo>
                  <a:pt x="1400" y="1400"/>
                </a:lnTo>
                <a:close/>
              </a:path>
              <a:path fill="darken" w="187812" h="21600">
                <a:moveTo>
                  <a:pt x="187812" y="0"/>
                </a:moveTo>
                <a:lnTo>
                  <a:pt x="187812" y="21600"/>
                </a:lnTo>
                <a:lnTo>
                  <a:pt x="186412" y="20200"/>
                </a:lnTo>
                <a:lnTo>
                  <a:pt x="186412" y="1400"/>
                </a:lnTo>
                <a:close/>
              </a:path>
              <a:path fill="darkenLess" w="187812" h="21600">
                <a:moveTo>
                  <a:pt x="18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6412" y="20200"/>
                </a:lnTo>
                <a:close/>
              </a:path>
              <a:path fill="lighten" w="18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1.2.3  VFP6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系统的常用数据类型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endshow"/>
          </p:cNvPr>
          <p:cNvSpPr/>
          <p:nvPr/>
        </p:nvSpPr>
        <p:spPr>
          <a:xfrm>
            <a:off x="5410080" y="4267080"/>
            <a:ext cx="2667240" cy="762120"/>
          </a:xfrm>
          <a:custGeom>
            <a:avLst/>
            <a:gdLst>
              <a:gd name="textAreaLeft" fmla="*/ 49320 w 2667240"/>
              <a:gd name="textAreaRight" fmla="*/ 2617920 w 2667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75569" h="21600">
                <a:moveTo>
                  <a:pt x="0" y="0"/>
                </a:moveTo>
                <a:lnTo>
                  <a:pt x="75569" y="0"/>
                </a:lnTo>
                <a:lnTo>
                  <a:pt x="75569" y="21600"/>
                </a:lnTo>
                <a:lnTo>
                  <a:pt x="0" y="21600"/>
                </a:lnTo>
                <a:close/>
              </a:path>
              <a:path fill="lightenLess" w="75569" h="21600">
                <a:moveTo>
                  <a:pt x="0" y="0"/>
                </a:moveTo>
                <a:lnTo>
                  <a:pt x="75569" y="0"/>
                </a:lnTo>
                <a:lnTo>
                  <a:pt x="74169" y="1400"/>
                </a:lnTo>
                <a:lnTo>
                  <a:pt x="1400" y="1400"/>
                </a:lnTo>
                <a:close/>
              </a:path>
              <a:path fill="darken" w="75569" h="21600">
                <a:moveTo>
                  <a:pt x="75569" y="0"/>
                </a:moveTo>
                <a:lnTo>
                  <a:pt x="75569" y="21600"/>
                </a:lnTo>
                <a:lnTo>
                  <a:pt x="74169" y="20200"/>
                </a:lnTo>
                <a:lnTo>
                  <a:pt x="74169" y="1400"/>
                </a:lnTo>
                <a:close/>
              </a:path>
              <a:path fill="darkenLess" w="75569" h="21600">
                <a:moveTo>
                  <a:pt x="75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69" y="20200"/>
                </a:lnTo>
                <a:close/>
              </a:path>
              <a:path fill="lighten" w="75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c0c0"/>
                </a:solidFill>
                <a:latin typeface="Times New Roman"/>
              </a:rPr>
              <a:t>退          出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4267080"/>
            <a:ext cx="2666880" cy="762120"/>
          </a:xfrm>
          <a:custGeom>
            <a:avLst/>
            <a:gdLst>
              <a:gd name="textAreaLeft" fmla="*/ 49320 w 2666880"/>
              <a:gd name="textAreaRight" fmla="*/ 2617560 w 2666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75559" h="21600">
                <a:moveTo>
                  <a:pt x="0" y="0"/>
                </a:moveTo>
                <a:lnTo>
                  <a:pt x="75559" y="0"/>
                </a:lnTo>
                <a:lnTo>
                  <a:pt x="75559" y="21600"/>
                </a:lnTo>
                <a:lnTo>
                  <a:pt x="0" y="21600"/>
                </a:lnTo>
                <a:close/>
              </a:path>
              <a:path fill="lightenLess" w="75559" h="21600">
                <a:moveTo>
                  <a:pt x="0" y="0"/>
                </a:moveTo>
                <a:lnTo>
                  <a:pt x="75559" y="0"/>
                </a:lnTo>
                <a:lnTo>
                  <a:pt x="74159" y="1400"/>
                </a:lnTo>
                <a:lnTo>
                  <a:pt x="1400" y="1400"/>
                </a:lnTo>
                <a:close/>
              </a:path>
              <a:path fill="darken" w="75559" h="21600">
                <a:moveTo>
                  <a:pt x="75559" y="0"/>
                </a:moveTo>
                <a:lnTo>
                  <a:pt x="75559" y="21600"/>
                </a:lnTo>
                <a:lnTo>
                  <a:pt x="74159" y="20200"/>
                </a:lnTo>
                <a:lnTo>
                  <a:pt x="74159" y="1400"/>
                </a:lnTo>
                <a:close/>
              </a:path>
              <a:path fill="darkenLess" w="75559" h="21600">
                <a:moveTo>
                  <a:pt x="755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9" y="20200"/>
                </a:lnTo>
                <a:close/>
              </a:path>
              <a:path fill="lighten" w="755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返       回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FF6-F351-4FD7-B894-B6165E5D100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8EE70-7840-48BB-B39C-C8B01857DF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57400" y="45396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488c4"/>
                </a:solidFill>
                <a:latin typeface="Times New Roman"/>
              </a:rPr>
              <a:t>1.2.1   </a:t>
            </a:r>
            <a:r>
              <a:rPr b="1" lang="zh-CN" sz="4000" spc="-1" strike="noStrike">
                <a:solidFill>
                  <a:srgbClr val="8488c4"/>
                </a:solidFill>
                <a:latin typeface="Times New Roman"/>
              </a:rPr>
              <a:t>系统环境及安装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2952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系统环境：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Windows 95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或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Windows 98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操作系统，配有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586/133MHz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或更高性能的处理器 ，推荐使用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32MB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以上内存 ，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VGA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或更高分辨率的显示器 ，硬盘空间为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250MB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到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400MB 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PS2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鼠标或串行鼠标 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6040" y="1752480"/>
            <a:ext cx="1382760" cy="7920"/>
          </a:xfrm>
          <a:custGeom>
            <a:avLst/>
            <a:gdLst/>
            <a:ahLst/>
            <a:rect l="l" t="t" r="r" b="b"/>
            <a:pathLst>
              <a:path w="871" h="5">
                <a:moveTo>
                  <a:pt x="0" y="5"/>
                </a:moveTo>
                <a:lnTo>
                  <a:pt x="871" y="0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2004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直接安装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VFP6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中文版 ：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719520"/>
            <a:ext cx="3364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66720" y="320364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在【我的电脑】文件夹里双击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1360" y="3733920"/>
            <a:ext cx="27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CD-ROM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驱动器图标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809880"/>
            <a:ext cx="542880" cy="341280"/>
          </a:xfrm>
          <a:prstGeom prst="rightArrow">
            <a:avLst>
              <a:gd name="adj1" fmla="val 50000"/>
              <a:gd name="adj2" fmla="val 39768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22960" y="3733920"/>
            <a:ext cx="31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双击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SETUP.EXE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图标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3809880"/>
            <a:ext cx="542880" cy="341280"/>
          </a:xfrm>
          <a:prstGeom prst="rightArrow">
            <a:avLst>
              <a:gd name="adj1" fmla="val 50000"/>
              <a:gd name="adj2" fmla="val 39768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22920" y="3738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160" y="42051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向导提示一步一步操作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000" y="4738680"/>
            <a:ext cx="19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VFP6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的启动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257800"/>
            <a:ext cx="2057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76600" y="4748040"/>
            <a:ext cx="230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介绍三种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方法：</a:t>
            </a:r>
            <a:r>
              <a:rPr b="0" lang="zh-CN" sz="2800" spc="-1" strike="noStrike" u="sng">
                <a:solidFill>
                  <a:srgbClr val="393a18"/>
                </a:solidFill>
                <a:uFillTx/>
                <a:latin typeface="Times New Roman"/>
                <a:hlinkClick r:id="rId1" action="ppaction://hlinksldjump"/>
              </a:rPr>
              <a:t>菜单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快捷方式、文件夹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5257800"/>
            <a:ext cx="86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VFP6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的退出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在命令窗口中输入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QUIT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后按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Enter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键或在【文件】菜单中选择【退出】或单击主窗口右上角的关闭按钮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715000"/>
            <a:ext cx="2057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B1DF-92FC-4F2F-8BFA-98BF673C3D0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2CC21-C859-4495-A6E3-449257297F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58520" y="330120"/>
            <a:ext cx="39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Visual FoxPro 6.0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系统启动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16" name="bmpF1B4" descr=""/>
          <p:cNvPicPr/>
          <p:nvPr/>
        </p:nvPicPr>
        <p:blipFill>
          <a:blip r:embed="rId1"/>
          <a:stretch/>
        </p:blipFill>
        <p:spPr>
          <a:xfrm>
            <a:off x="654120" y="1752480"/>
            <a:ext cx="1860480" cy="4502160"/>
          </a:xfrm>
          <a:prstGeom prst="rect">
            <a:avLst/>
          </a:prstGeom>
          <a:ln w="0">
            <a:noFill/>
          </a:ln>
        </p:spPr>
      </p:pic>
      <p:pic>
        <p:nvPicPr>
          <p:cNvPr id="117" name="bmp1190" descr=""/>
          <p:cNvPicPr/>
          <p:nvPr/>
        </p:nvPicPr>
        <p:blipFill>
          <a:blip r:embed="rId2"/>
          <a:stretch/>
        </p:blipFill>
        <p:spPr>
          <a:xfrm>
            <a:off x="2521080" y="2265480"/>
            <a:ext cx="2050920" cy="3983040"/>
          </a:xfrm>
          <a:prstGeom prst="rect">
            <a:avLst/>
          </a:prstGeom>
          <a:ln w="0">
            <a:noFill/>
          </a:ln>
        </p:spPr>
      </p:pic>
      <p:pic>
        <p:nvPicPr>
          <p:cNvPr id="118" name="bmp807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124080"/>
            <a:ext cx="1828800" cy="21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533520" y="762120"/>
          <a:ext cx="1923840" cy="96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762120"/>
                    <a:ext cx="19238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4753080" y="2714760"/>
            <a:ext cx="1038240" cy="409320"/>
            <a:chOff x="4753080" y="2714760"/>
            <a:chExt cx="1038240" cy="409320"/>
          </a:xfrm>
        </p:grpSpPr>
        <p:sp>
          <p:nvSpPr>
            <p:cNvPr id="122" name=""/>
            <p:cNvSpPr/>
            <p:nvPr/>
          </p:nvSpPr>
          <p:spPr>
            <a:xfrm>
              <a:off x="4998960" y="2743200"/>
              <a:ext cx="54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63634"/>
                  </a:solidFill>
                  <a:latin typeface="Times New Roman"/>
                </a:rPr>
                <a:t>单击此菜单项</a:t>
              </a:r>
              <a:endParaRPr b="0" lang="en-US" sz="12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4753080" y="2714760"/>
            <a:ext cx="1038240" cy="409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53080" y="2714760"/>
                      <a:ext cx="1038240" cy="40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5" name=""/>
          <p:cNvGrpSpPr/>
          <p:nvPr/>
        </p:nvGrpSpPr>
        <p:grpSpPr>
          <a:xfrm>
            <a:off x="304920" y="2205360"/>
            <a:ext cx="1266840" cy="1939320"/>
            <a:chOff x="304920" y="2205360"/>
            <a:chExt cx="1266840" cy="1939320"/>
          </a:xfrm>
        </p:grpSpPr>
        <p:sp>
          <p:nvSpPr>
            <p:cNvPr id="126" name=""/>
            <p:cNvSpPr/>
            <p:nvPr/>
          </p:nvSpPr>
          <p:spPr>
            <a:xfrm>
              <a:off x="380160" y="2205360"/>
              <a:ext cx="213480" cy="19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63634"/>
                  </a:solidFill>
                  <a:latin typeface="Times New Roman"/>
                </a:rPr>
                <a:t>鼠标指向此菜单项</a:t>
              </a:r>
              <a:endParaRPr b="0" lang="en-US" sz="1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aphicFrame>
          <p:nvGraphicFramePr>
            <p:cNvPr id="127" name=""/>
            <p:cNvGraphicFramePr/>
            <p:nvPr/>
          </p:nvGraphicFramePr>
          <p:xfrm>
            <a:off x="304920" y="2362320"/>
            <a:ext cx="1266840" cy="1676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4920" y="2362320"/>
                      <a:ext cx="1266840" cy="16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9" name=""/>
          <p:cNvGrpSpPr/>
          <p:nvPr/>
        </p:nvGrpSpPr>
        <p:grpSpPr>
          <a:xfrm>
            <a:off x="2286000" y="1900440"/>
            <a:ext cx="1266840" cy="1939320"/>
            <a:chOff x="2286000" y="1900440"/>
            <a:chExt cx="1266840" cy="1939320"/>
          </a:xfrm>
        </p:grpSpPr>
        <p:sp>
          <p:nvSpPr>
            <p:cNvPr id="130" name=""/>
            <p:cNvSpPr/>
            <p:nvPr/>
          </p:nvSpPr>
          <p:spPr>
            <a:xfrm>
              <a:off x="2361240" y="1900440"/>
              <a:ext cx="213480" cy="19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63634"/>
                  </a:solidFill>
                  <a:latin typeface="Times New Roman"/>
                </a:rPr>
                <a:t>鼠标指向此菜单项</a:t>
              </a:r>
              <a:endParaRPr b="0" lang="en-US" sz="1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aphicFrame>
          <p:nvGraphicFramePr>
            <p:cNvPr id="131" name=""/>
            <p:cNvGraphicFramePr/>
            <p:nvPr/>
          </p:nvGraphicFramePr>
          <p:xfrm>
            <a:off x="2286000" y="2057400"/>
            <a:ext cx="1266840" cy="1676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86000" y="2057400"/>
                      <a:ext cx="1266840" cy="16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3" name=""/>
          <p:cNvGrpSpPr/>
          <p:nvPr/>
        </p:nvGrpSpPr>
        <p:grpSpPr>
          <a:xfrm>
            <a:off x="5029200" y="3686040"/>
            <a:ext cx="2666880" cy="1574280"/>
            <a:chOff x="5029200" y="3686040"/>
            <a:chExt cx="2666880" cy="1574280"/>
          </a:xfrm>
        </p:grpSpPr>
        <p:graphicFrame>
          <p:nvGraphicFramePr>
            <p:cNvPr id="134" name=""/>
            <p:cNvGraphicFramePr/>
            <p:nvPr/>
          </p:nvGraphicFramePr>
          <p:xfrm>
            <a:off x="5391000" y="3686040"/>
            <a:ext cx="1924200" cy="962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391000" y="3686040"/>
                      <a:ext cx="1924200" cy="9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6" name=""/>
            <p:cNvGrpSpPr/>
            <p:nvPr/>
          </p:nvGrpSpPr>
          <p:grpSpPr>
            <a:xfrm>
              <a:off x="5029200" y="4800600"/>
              <a:ext cx="2666880" cy="459720"/>
              <a:chOff x="5029200" y="4800600"/>
              <a:chExt cx="2666880" cy="459720"/>
            </a:xfrm>
          </p:grpSpPr>
          <p:sp>
            <p:nvSpPr>
              <p:cNvPr id="137" name=""/>
              <p:cNvSpPr/>
              <p:nvPr/>
            </p:nvSpPr>
            <p:spPr>
              <a:xfrm>
                <a:off x="5562720" y="4800600"/>
                <a:ext cx="164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463634"/>
                    </a:solidFill>
                    <a:latin typeface="Times New Roman"/>
                  </a:rPr>
                  <a:t>双击桌面快捷方式</a:t>
                </a:r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9200" y="5257800"/>
                <a:ext cx="266688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9" name="bmp8172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711920" y="4724280"/>
            <a:ext cx="822600" cy="84636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6858000" y="2004840"/>
            <a:ext cx="1371600" cy="662040"/>
          </a:xfrm>
          <a:custGeom>
            <a:avLst/>
            <a:gdLst>
              <a:gd name="textAreaLeft" fmla="*/ 42840 w 1371600"/>
              <a:gd name="textAreaRight" fmla="*/ 1328760 w 13716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44738" h="21600">
                <a:moveTo>
                  <a:pt x="0" y="0"/>
                </a:moveTo>
                <a:lnTo>
                  <a:pt x="44738" y="0"/>
                </a:lnTo>
                <a:lnTo>
                  <a:pt x="44738" y="21600"/>
                </a:lnTo>
                <a:lnTo>
                  <a:pt x="0" y="21600"/>
                </a:lnTo>
                <a:close/>
              </a:path>
              <a:path fill="lightenLess" w="44738" h="21600">
                <a:moveTo>
                  <a:pt x="0" y="0"/>
                </a:moveTo>
                <a:lnTo>
                  <a:pt x="44738" y="0"/>
                </a:lnTo>
                <a:lnTo>
                  <a:pt x="43338" y="1400"/>
                </a:lnTo>
                <a:lnTo>
                  <a:pt x="1400" y="1400"/>
                </a:lnTo>
                <a:close/>
              </a:path>
              <a:path fill="darken" w="44738" h="21600">
                <a:moveTo>
                  <a:pt x="44738" y="0"/>
                </a:moveTo>
                <a:lnTo>
                  <a:pt x="44738" y="21600"/>
                </a:lnTo>
                <a:lnTo>
                  <a:pt x="43338" y="20200"/>
                </a:lnTo>
                <a:lnTo>
                  <a:pt x="43338" y="1400"/>
                </a:lnTo>
                <a:close/>
              </a:path>
              <a:path fill="darkenLess" w="44738" h="21600">
                <a:moveTo>
                  <a:pt x="44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38" y="20200"/>
                </a:lnTo>
                <a:close/>
              </a:path>
              <a:path fill="lighten" w="44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方法三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B1F-0F71-46FD-9AFA-3135B96EEC5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5A19F-EB73-4EA4-9C13-D6D8B377F0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86040" y="1219320"/>
            <a:ext cx="735120" cy="459720"/>
            <a:chOff x="86040" y="1219320"/>
            <a:chExt cx="735120" cy="459720"/>
          </a:xfrm>
        </p:grpSpPr>
        <p:sp>
          <p:nvSpPr>
            <p:cNvPr id="142" name=""/>
            <p:cNvSpPr/>
            <p:nvPr/>
          </p:nvSpPr>
          <p:spPr>
            <a:xfrm>
              <a:off x="86040" y="1676520"/>
              <a:ext cx="7351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9800" y="12193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63634"/>
                  </a:solidFill>
                  <a:latin typeface="Times New Roman"/>
                </a:rPr>
                <a:t>双击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aphicFrame>
        <p:nvGraphicFramePr>
          <p:cNvPr id="144" name=""/>
          <p:cNvGraphicFramePr/>
          <p:nvPr/>
        </p:nvGraphicFramePr>
        <p:xfrm>
          <a:off x="133200" y="104760"/>
          <a:ext cx="1924200" cy="96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104760"/>
                    <a:ext cx="19242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bmp9163" descr=""/>
          <p:cNvPicPr/>
          <p:nvPr/>
        </p:nvPicPr>
        <p:blipFill>
          <a:blip r:embed="rId4"/>
          <a:stretch/>
        </p:blipFill>
        <p:spPr>
          <a:xfrm>
            <a:off x="860400" y="1219320"/>
            <a:ext cx="663480" cy="617400"/>
          </a:xfrm>
          <a:prstGeom prst="rect">
            <a:avLst/>
          </a:prstGeom>
          <a:ln w="0">
            <a:noFill/>
          </a:ln>
        </p:spPr>
      </p:pic>
      <p:pic>
        <p:nvPicPr>
          <p:cNvPr id="147" name="bmp21E2" descr=""/>
          <p:cNvPicPr/>
          <p:nvPr/>
        </p:nvPicPr>
        <p:blipFill>
          <a:blip r:embed="rId5"/>
          <a:stretch/>
        </p:blipFill>
        <p:spPr>
          <a:xfrm>
            <a:off x="2057400" y="76320"/>
            <a:ext cx="3814920" cy="303516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3296880" y="838080"/>
            <a:ext cx="741240" cy="459720"/>
            <a:chOff x="3296880" y="838080"/>
            <a:chExt cx="741240" cy="459720"/>
          </a:xfrm>
        </p:grpSpPr>
        <p:sp>
          <p:nvSpPr>
            <p:cNvPr id="149" name=""/>
            <p:cNvSpPr/>
            <p:nvPr/>
          </p:nvSpPr>
          <p:spPr>
            <a:xfrm>
              <a:off x="3303360" y="1295280"/>
              <a:ext cx="7347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96880" y="8380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双击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pic>
        <p:nvPicPr>
          <p:cNvPr id="151" name="bmpA2E2" descr=""/>
          <p:cNvPicPr/>
          <p:nvPr/>
        </p:nvPicPr>
        <p:blipFill>
          <a:blip r:embed="rId6"/>
          <a:stretch/>
        </p:blipFill>
        <p:spPr>
          <a:xfrm>
            <a:off x="6477120" y="76320"/>
            <a:ext cx="2133360" cy="304164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7362360" y="1905120"/>
            <a:ext cx="741960" cy="459720"/>
            <a:chOff x="7362360" y="1905120"/>
            <a:chExt cx="741960" cy="459720"/>
          </a:xfrm>
        </p:grpSpPr>
        <p:sp>
          <p:nvSpPr>
            <p:cNvPr id="153" name=""/>
            <p:cNvSpPr/>
            <p:nvPr/>
          </p:nvSpPr>
          <p:spPr>
            <a:xfrm>
              <a:off x="7369200" y="2362320"/>
              <a:ext cx="7351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62360" y="1905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双击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523880" y="1295280"/>
            <a:ext cx="540000" cy="486000"/>
          </a:xfrm>
          <a:prstGeom prst="rightArrow">
            <a:avLst>
              <a:gd name="adj1" fmla="val 50000"/>
              <a:gd name="adj2" fmla="val 27778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7120" y="1295280"/>
            <a:ext cx="540000" cy="486000"/>
          </a:xfrm>
          <a:prstGeom prst="rightArrow">
            <a:avLst>
              <a:gd name="adj1" fmla="val 50000"/>
              <a:gd name="adj2" fmla="val 27778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9160" y="4390920"/>
            <a:ext cx="539640" cy="486000"/>
          </a:xfrm>
          <a:prstGeom prst="rightArrow">
            <a:avLst>
              <a:gd name="adj1" fmla="val 50000"/>
              <a:gd name="adj2" fmla="val 27759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8" name="bmpD384" descr=""/>
          <p:cNvPicPr/>
          <p:nvPr/>
        </p:nvPicPr>
        <p:blipFill>
          <a:blip r:embed="rId7"/>
          <a:stretch/>
        </p:blipFill>
        <p:spPr>
          <a:xfrm>
            <a:off x="1828800" y="3200400"/>
            <a:ext cx="2127240" cy="3027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956040" y="4419720"/>
            <a:ext cx="539640" cy="485640"/>
          </a:xfrm>
          <a:prstGeom prst="rightArrow">
            <a:avLst>
              <a:gd name="adj1" fmla="val 50000"/>
              <a:gd name="adj2" fmla="val 27780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60" name="bmpF253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3200400"/>
            <a:ext cx="2127240" cy="302724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1925280" y="4572000"/>
            <a:ext cx="741240" cy="459720"/>
            <a:chOff x="1925280" y="4572000"/>
            <a:chExt cx="741240" cy="459720"/>
          </a:xfrm>
        </p:grpSpPr>
        <p:sp>
          <p:nvSpPr>
            <p:cNvPr id="162" name=""/>
            <p:cNvSpPr/>
            <p:nvPr/>
          </p:nvSpPr>
          <p:spPr>
            <a:xfrm>
              <a:off x="1931760" y="5029200"/>
              <a:ext cx="7347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25280" y="4572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双击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668480" y="4724280"/>
            <a:ext cx="741240" cy="459720"/>
            <a:chOff x="4668480" y="4724280"/>
            <a:chExt cx="741240" cy="459720"/>
          </a:xfrm>
        </p:grpSpPr>
        <p:sp>
          <p:nvSpPr>
            <p:cNvPr id="165" name=""/>
            <p:cNvSpPr/>
            <p:nvPr/>
          </p:nvSpPr>
          <p:spPr>
            <a:xfrm>
              <a:off x="4674960" y="5181480"/>
              <a:ext cx="7347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68480" y="4724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双击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67" name="">
            <a:hlinkClick r:id="rId10" action="ppaction://hlinksldjump"/>
          </p:cNvPr>
          <p:cNvSpPr/>
          <p:nvPr/>
        </p:nvSpPr>
        <p:spPr>
          <a:xfrm>
            <a:off x="7377840" y="4543560"/>
            <a:ext cx="66852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返回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DC47-3F90-420A-9245-E1A50F2FEF5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267B0-018D-47A5-BDBC-FA7E092074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14320" y="136440"/>
            <a:ext cx="57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e9eff"/>
                </a:solidFill>
                <a:latin typeface="Times New Roman"/>
              </a:rPr>
              <a:t>1.2.2   VFP6</a:t>
            </a:r>
            <a:r>
              <a:rPr b="1" lang="zh-CN" sz="4000" spc="-1" strike="noStrike">
                <a:solidFill>
                  <a:srgbClr val="5e9eff"/>
                </a:solidFill>
                <a:latin typeface="Times New Roman"/>
              </a:rPr>
              <a:t>系统的常用文件类型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8040" y="76212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项目文件 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PJT  .PJX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6324480" y="6141960"/>
            <a:ext cx="1043280" cy="411120"/>
          </a:xfrm>
          <a:custGeom>
            <a:avLst/>
            <a:gdLst>
              <a:gd name="textAreaLeft" fmla="*/ 26640 w 1043280"/>
              <a:gd name="textAreaRight" fmla="*/ 1016640 w 104328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84" h="21600">
                <a:moveTo>
                  <a:pt x="0" y="0"/>
                </a:moveTo>
                <a:lnTo>
                  <a:pt x="54784" y="0"/>
                </a:lnTo>
                <a:lnTo>
                  <a:pt x="54784" y="21600"/>
                </a:lnTo>
                <a:lnTo>
                  <a:pt x="0" y="21600"/>
                </a:lnTo>
                <a:close/>
              </a:path>
              <a:path fill="lightenLess" w="54784" h="21600">
                <a:moveTo>
                  <a:pt x="0" y="0"/>
                </a:moveTo>
                <a:lnTo>
                  <a:pt x="54784" y="0"/>
                </a:lnTo>
                <a:lnTo>
                  <a:pt x="53384" y="1400"/>
                </a:lnTo>
                <a:lnTo>
                  <a:pt x="1400" y="1400"/>
                </a:lnTo>
                <a:close/>
              </a:path>
              <a:path fill="darken" w="54784" h="21600">
                <a:moveTo>
                  <a:pt x="54784" y="0"/>
                </a:moveTo>
                <a:lnTo>
                  <a:pt x="54784" y="21600"/>
                </a:lnTo>
                <a:lnTo>
                  <a:pt x="53384" y="20200"/>
                </a:lnTo>
                <a:lnTo>
                  <a:pt x="53384" y="1400"/>
                </a:lnTo>
                <a:close/>
              </a:path>
              <a:path fill="darkenLess" w="54784" h="21600">
                <a:moveTo>
                  <a:pt x="54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84" y="20200"/>
                </a:lnTo>
                <a:close/>
              </a:path>
              <a:path fill="lighten" w="54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39720" y="12333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数据库文件 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DBC  .DCT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16905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表文件 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DBF .FPT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39720" y="213372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程序文件 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PRG .FXP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6049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索引文件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IDX .CDX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30621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内存变量文件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M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35193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屏幕格式文件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FMT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39765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报表格式文件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FRX  .FRT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44337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标签文件 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LBX  .LBT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48909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文本文件 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TXT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53481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11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菜单文件 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MNT  .MNX  .MPR  .MPX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58053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12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表单文件  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.SCX    .SCT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187-C6FF-46AB-934A-BB71C54586A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36872-AD08-4160-82EB-35AB4070D4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93720" y="212760"/>
            <a:ext cx="57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3d4a8"/>
                </a:solidFill>
                <a:latin typeface="Times New Roman"/>
              </a:rPr>
              <a:t>1.2.3   VFP6</a:t>
            </a:r>
            <a:r>
              <a:rPr b="1" lang="zh-CN" sz="4000" spc="-1" strike="noStrike">
                <a:solidFill>
                  <a:srgbClr val="03d4a8"/>
                </a:solidFill>
                <a:latin typeface="Times New Roman"/>
              </a:rPr>
              <a:t>系统的常用数据类型</a:t>
            </a:r>
            <a:r>
              <a:rPr b="0" lang="zh-CN" sz="2400" spc="-1" strike="noStrike">
                <a:solidFill>
                  <a:srgbClr val="03d4a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10047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字符型数据（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Character,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简写为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16905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数值型数据（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Numeric,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简写为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23763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逻辑型数据（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Logic,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简写为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0621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日期型数据（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Date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，简写为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37479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备注型数据（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Memo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，简写为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44337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通用型数据（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General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，简写为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G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6958080" y="6141960"/>
            <a:ext cx="1042920" cy="411120"/>
          </a:xfrm>
          <a:custGeom>
            <a:avLst/>
            <a:gdLst>
              <a:gd name="textAreaLeft" fmla="*/ 26640 w 1042920"/>
              <a:gd name="textAreaRight" fmla="*/ 1016280 w 1042920"/>
              <a:gd name="textAreaTop" fmla="*/ 26640 h 411120"/>
              <a:gd name="textAreaBottom" fmla="*/ 384480 h 411120"/>
            </a:gdLst>
            <a:ahLst/>
            <a:rect l="textAreaLeft" t="textAreaTop" r="textAreaRight" b="textAreaBottom"/>
            <a:pathLst>
              <a:path w="54765" h="21600">
                <a:moveTo>
                  <a:pt x="0" y="0"/>
                </a:moveTo>
                <a:lnTo>
                  <a:pt x="54765" y="0"/>
                </a:lnTo>
                <a:lnTo>
                  <a:pt x="54765" y="21600"/>
                </a:lnTo>
                <a:lnTo>
                  <a:pt x="0" y="21600"/>
                </a:lnTo>
                <a:close/>
              </a:path>
              <a:path fill="lightenLess" w="54765" h="21600">
                <a:moveTo>
                  <a:pt x="0" y="0"/>
                </a:moveTo>
                <a:lnTo>
                  <a:pt x="54765" y="0"/>
                </a:lnTo>
                <a:lnTo>
                  <a:pt x="53365" y="1400"/>
                </a:lnTo>
                <a:lnTo>
                  <a:pt x="1400" y="1400"/>
                </a:lnTo>
                <a:close/>
              </a:path>
              <a:path fill="darken" w="54765" h="21600">
                <a:moveTo>
                  <a:pt x="54765" y="0"/>
                </a:moveTo>
                <a:lnTo>
                  <a:pt x="54765" y="21600"/>
                </a:lnTo>
                <a:lnTo>
                  <a:pt x="53365" y="20200"/>
                </a:lnTo>
                <a:lnTo>
                  <a:pt x="53365" y="1400"/>
                </a:lnTo>
                <a:close/>
              </a:path>
              <a:path fill="darkenLess" w="54765" h="21600">
                <a:moveTo>
                  <a:pt x="54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65" y="20200"/>
                </a:lnTo>
                <a:close/>
              </a:path>
              <a:path fill="lighten" w="54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sual FoxPro 6.0程序设计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131-F134-4108-8A7B-B59771DFD19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7B3FE-2CFF-4A9E-B351-F275055840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9T03:51:16Z</dcterms:created>
  <dc:creator>黎能武</dc:creator>
  <dc:description/>
  <dc:language>en-US</dc:language>
  <cp:lastModifiedBy>lsj</cp:lastModifiedBy>
  <dcterms:modified xsi:type="dcterms:W3CDTF">2001-09-25T13:39:22Z</dcterms:modified>
  <cp:revision>51</cp:revision>
  <dc:subject/>
  <dc:title>Visual FoxPro 6.0程序设计演示文稿</dc:title>
</cp:coreProperties>
</file>